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3D6-DA43-41A8-A7EE-32769DF4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A17-2DF4-4BB3-B0FC-90078F1D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216-526F-4BA1-895C-047B76E7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B17-F557-475A-8954-94C4E3D0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A9FB-1DA7-41CE-8515-CE1F72E6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545E-2A6A-4CDB-8E91-A3F86D3E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D8AA-5558-4E1B-AA49-8A3ECA30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970-CEAD-4AC6-A3E1-699097F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5FB1-9027-4A64-BE08-9EBD446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6FD4-531B-4CEB-8003-0BD8B194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EF90-56F3-43F9-BB02-E15E8206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5B6-D09F-4662-B6A5-CC04767F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1516-0BCA-42F2-BF97-698AC5D6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0411-563E-4F57-9EA5-E676155C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BB64-4CCB-4DC9-A6B5-8D73658A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96C5-337C-4DDA-BAA0-84FA70BC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CC19-5759-4BA2-A3DF-06D40DF2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BE0-9502-4632-8A01-85033064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01B-B739-4EC5-A978-1DF97AF8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75D-107B-489B-BDF9-9D1313D4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F76-E4D3-4AF2-AE52-FCAB1489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7AF-C3FC-4CE1-AB27-43F26A21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E60-69E8-4FC8-9BB4-57C9F5D9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D0F-7D43-4D7F-99F3-0E99090C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505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ff50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ff505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ff50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ff505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B40A-6204-4918-8640-177E5AD43D09}" type="slidenum">
              <a:rPr b="0" lang="ru-RU" sz="12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A669-44FD-481D-8F52-4E64CAB14685}" type="slidenum">
              <a:rPr b="0" lang="ru-RU" sz="12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ff505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99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ff505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ff505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oza.ru/img/licence/repair_productio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toolmaker.ru/img/licence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etrologyia.ru/wp-content/uploads/2008/09/d181d185d0b5d0bcd0b0-14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doza.ru/img/news/gosreestr.gif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http://rapidlinks.ru/upload/5/12345238055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лан лекции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1 Сфера деятельности ГМКиН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2 Виды контроля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3 Виды надзора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D503-9CA5-41BC-90A9-919E0BB537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2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иды контрол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рк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как виду государственного метрологического контроля подлежа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и выпуске их из производства, ремонта, при эксплуатации, при ввозе по импорту, а также при продаже и выдаче в прокат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32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32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рка СИ, в том числе эталонов, осуществляется органами ГМК. Допускается продажа и выдача напрокат только поверенных СИ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32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рке полежит каждый экземпляр С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8C1-5837-4B42-BF1E-D8FEF4AF96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2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иды контрол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иды поверок: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Первичная – при выпуске с производства и после ремонта, а также при ввозе по импорту.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Периодическая – поверка в период эксплуатации или хранения.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79D-1193-4416-819F-692B9E20D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2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иды контрол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Внеочередная – при повреждении знака поверительного клейма, ввод в эксплуатацию СИ после длительного хранения, неудовлетворительная работа прибора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Инспекционная – поверка при выявлении пригодности к применению СИ при осуществлен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МН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Экспертная – поверка при возникновении вопросов по метрологическим характеристикам, исправности СИ и пригодности их к применению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104-8827-426B-B2F8-D41EF33A8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Verdana"/>
              </a:rPr>
              <a:t>Поверительные клейма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0" name="Рисунок 28" descr="http://www.csm.ivanovo.ru/photo/kleymo_stamp.gif"/>
          <p:cNvPicPr/>
          <p:nvPr/>
        </p:nvPicPr>
        <p:blipFill>
          <a:blip r:embed="rId2"/>
          <a:stretch/>
        </p:blipFill>
        <p:spPr>
          <a:xfrm>
            <a:off x="971640" y="3213000"/>
            <a:ext cx="2376360" cy="2092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9" descr="http://www.csm.ivanovo.ru/photo/kleymo_nakl.jpg"/>
          <p:cNvPicPr/>
          <p:nvPr/>
        </p:nvPicPr>
        <p:blipFill>
          <a:blip r:embed="rId3"/>
          <a:stretch/>
        </p:blipFill>
        <p:spPr>
          <a:xfrm>
            <a:off x="3708360" y="3645000"/>
            <a:ext cx="5040360" cy="96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2200" y="2348280"/>
            <a:ext cx="32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Клеймо поверителя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2680" y="23482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Наклейка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471-36FE-4B3F-8001-299ABCA1D0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Verdana"/>
              </a:rPr>
              <a:t>Поверительные клейма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5" name="Рисунок 32" descr="http://www.elzakaz.ru/img/poverka.jpg"/>
          <p:cNvPicPr/>
          <p:nvPr/>
        </p:nvPicPr>
        <p:blipFill>
          <a:blip r:embed="rId2"/>
          <a:stretch/>
        </p:blipFill>
        <p:spPr>
          <a:xfrm>
            <a:off x="468360" y="1844640"/>
            <a:ext cx="151920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6" descr="http://www.khenk.ru/doc_images/44983-6.jpg"/>
          <p:cNvPicPr/>
          <p:nvPr/>
        </p:nvPicPr>
        <p:blipFill>
          <a:blip r:embed="rId3"/>
          <a:stretch/>
        </p:blipFill>
        <p:spPr>
          <a:xfrm>
            <a:off x="539640" y="4221000"/>
            <a:ext cx="2952720" cy="20718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4" descr="http://www.khenk.ru/doc_images/44983-2.jpg"/>
          <p:cNvPicPr/>
          <p:nvPr/>
        </p:nvPicPr>
        <p:blipFill>
          <a:blip r:embed="rId4"/>
          <a:stretch/>
        </p:blipFill>
        <p:spPr>
          <a:xfrm>
            <a:off x="2627280" y="1844640"/>
            <a:ext cx="2664000" cy="2071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5" descr="http://www.khenk.ru/doc_images/44983-4.jpg"/>
          <p:cNvPicPr/>
          <p:nvPr/>
        </p:nvPicPr>
        <p:blipFill>
          <a:blip r:embed="rId5"/>
          <a:stretch/>
        </p:blipFill>
        <p:spPr>
          <a:xfrm>
            <a:off x="5796000" y="184464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7" descr="http://www.khenk.ru/doc_images/44983-8.jpg"/>
          <p:cNvPicPr/>
          <p:nvPr/>
        </p:nvPicPr>
        <p:blipFill>
          <a:blip r:embed="rId6"/>
          <a:stretch/>
        </p:blipFill>
        <p:spPr>
          <a:xfrm>
            <a:off x="4932360" y="4221000"/>
            <a:ext cx="2087640" cy="20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A37-B837-4FC9-80B9-BF03FBA029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2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иды контрол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еятельность по изготовлению, ремонту, продаже и прокату СИ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гласно Закону «Об обеспечении единства измерений»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лжна подвергаться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лицензировани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если относится к сфере ГМН) органами метрологической службы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413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413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нзирование деятельности по изготовлению и ремонту средств измерений прекращается со дня вступления в силу соответствующих технических регламентов (пункт 7 статьи 18 Федерального закона от 08.08.2001 N 128-ФЗ).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36E-1C1D-45A5-A2DA-DCFF6DA571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2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иды контрол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нзи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кументально оформленное разрешение, выдаваемое органом ГМС на закрепленный за ним территории юридическому или физическому лицу на осуществлении деятельности по изготовлению, ремонту, продаже или прокату СИ.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претендующие на получение лицензии на изготовление СИ, должны иметь сертификат об утверждении типа СИ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нзия действительна на всей территории РФ и выдается сроком не более 5 лет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EFD-865D-4E15-A182-81C37E395C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-main-pic" descr="Картинка 2 из 2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4181400" cy="6021360"/>
          </a:xfrm>
          <a:prstGeom prst="rect">
            <a:avLst/>
          </a:prstGeom>
          <a:ln w="0">
            <a:noFill/>
          </a:ln>
        </p:spPr>
      </p:pic>
      <p:pic>
        <p:nvPicPr>
          <p:cNvPr id="125" name="i-main-pic" descr="Картинка 1 из 215">
            <a:hlinkClick r:id="rId4"/>
          </p:cNvPr>
          <p:cNvPicPr/>
          <p:nvPr/>
        </p:nvPicPr>
        <p:blipFill>
          <a:blip r:embed="rId5"/>
          <a:srcRect l="0" t="0" r="5062" b="2507"/>
          <a:stretch/>
        </p:blipFill>
        <p:spPr>
          <a:xfrm>
            <a:off x="3995640" y="1052640"/>
            <a:ext cx="3961080" cy="56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736-C1C8-45F5-9257-4CBB19FEE3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304920"/>
            <a:ext cx="8928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3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иды надзор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Государственный метрологический надзор (ГМН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 - это система мер, осуществляемых органами ГМС в пределах их компетенции в целях обеспечения соблюдения юридическими лицами и индивидуальными предпринимателями Закона «Об обеспечении единства измерений» и других метрологических правил и норм. 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0DE-7915-4730-9292-8CAE08D975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3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иды надзор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ГМН осуществляется: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 выпуском, состоянием и применением средств измерений, аттестованными МВИ, эталонами единиц величин, соблюдением метрологических правил и норм;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 количеством товаров, отчуждаемых при совершении торговых операций;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 количеством фасованных товаров в упаковках любого вида при их расфасовке и продаже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E4E-66A8-4758-8256-EB583D1878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1 Сфера деятельности ГМКи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rinda"/>
                <a:ea typeface="Times New Roman"/>
              </a:rPr>
              <a:t>ГМКиН</a:t>
            </a:r>
            <a:r>
              <a:rPr b="0" lang="en-US" sz="2800" spc="-1" strike="noStrike">
                <a:solidFill>
                  <a:srgbClr val="000000"/>
                </a:solidFill>
                <a:latin typeface="Vrinda"/>
                <a:ea typeface="Times New Roman"/>
              </a:rPr>
              <a:t> – деятельность, осуществляемая Государственно</a:t>
            </a:r>
            <a:r>
              <a:rPr b="0" lang="ru-RU" sz="2800" spc="-1" strike="noStrike">
                <a:solidFill>
                  <a:srgbClr val="000000"/>
                </a:solidFill>
                <a:latin typeface="Vrinda"/>
                <a:ea typeface="Times New Roman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Vrinda"/>
                <a:ea typeface="Times New Roman"/>
              </a:rPr>
              <a:t> метрологической службой с целью проверки соблюдения пользователями СИ Закона «Об единстве измерений», требований технических регламентов и др. нормативных документов в области метрологии. Виды и сферы государственного метрологического контроля и надзора (ГМКиН) определены Законом «Об обеспечении единства измерений» (ст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</a:t>
            </a:r>
            <a:r>
              <a:rPr b="0" lang="en-US" sz="2800" spc="-1" strike="noStrike">
                <a:solidFill>
                  <a:srgbClr val="000000"/>
                </a:solidFill>
                <a:latin typeface="Vrinda"/>
                <a:ea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CAB-D865-47AB-AD07-781A7EADCC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3 Виды надзор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5050"/>
                </a:solidFill>
                <a:latin typeface="Verdan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роверки могут быть плановыми, внеплановыми и повторными (плановые не реже 1 раза в 3 года)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716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716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обнаружении нарушений инспектор имеет право: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71680" indent="-571680" algn="just">
              <a:spcBef>
                <a:spcPts val="649"/>
              </a:spcBef>
              <a:buClr>
                <a:srgbClr val="ff50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рещать применение и изымать СИ неутвержденных типов;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71680" indent="-571680" algn="just">
              <a:spcBef>
                <a:spcPts val="649"/>
              </a:spcBef>
              <a:buClr>
                <a:srgbClr val="ff50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улировать поверительные клейма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C12-6BBD-4762-B587-CD555CB01A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3 Виды надзор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5050"/>
                </a:solidFill>
                <a:latin typeface="Verdana"/>
              </a:rPr>
              <a:t>2</a:t>
            </a: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дзор за количеством товаров в торговых операциях осуществляется в виде контрольной закупки (ПР 50.2.003-94)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ушением считается: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чуждение меньшего количества товара по сравнению с заявленным – обмер, обвес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чуждение меньшего количества товара, чем то, которое соответствует уплаченной цене, - обсчет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0ED-3110-406A-9C20-E095A72F26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3 Виды надзор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5050"/>
                </a:solidFill>
                <a:latin typeface="Verdana"/>
              </a:rPr>
              <a:t>3</a:t>
            </a: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ос. метрологический надзор за количеством фасованного товара (ПР 50.2.004-94) осуществляется путем контроля за соблюдением метрологических требований к содержимому нетто в упаковке.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клонение содержимого не должно превышать предела допускаемых отклонений.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6C3-6D37-4820-B635-EB3D915360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1 Сфера деятельности ГМКи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феры деятельности ГМКиН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27320" indent="-4273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здравоохранение, ветеринарию, охрану окружающей среды, обеспечение безопасности труда;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27320" indent="-4273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торговые операции и взаимные расчеты между покупателем и продавцом, в том числе на операции с применением игровых автоматов и устройств;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27320" indent="-4273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государственные учетные операции; обеспечение обороны государств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;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27320" indent="-4273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дезические и гидрометеорологические работы;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427320" indent="-4273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банковские, налоговые, таможенные и почтовые операции;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6FA-5788-479A-8A3E-AE5E936A1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1 Сфера деятельности ГМКи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78544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 algn="just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изводство продукции, поставляемой по контрактам для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государственных нужд в соответствии с законодательством РФ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испытания и контроль качества продукции в целях определения соответствия обязательным требованиям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язательную сертификацию продукции и услуг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, проводимые по поручению органов суда, прокуратуры, арбитражного суда, федеральных органов государственной власти РФ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гистрацию национальных и международных спортивных рекордов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ласть энергосбережения.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36D-5D69-42AB-BF50-6B88BFED5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1 Сфера деятельности ГМКи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МКиН представляет собой инструмент обеспечения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ласти метрологии, реализуемый в качестве функции государственного управления, которая имеет межотраслевое и надведомственное значение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МКиН осуществляется путем проведения проверок соблюдения метрологических норм и правил, а при нарушении этих норм и правил, и применения законодательных мер принудительного характера.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CD4-5842-4CEB-9669-6D6AC65539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18320" cy="648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E92-59B5-4471-89F3-B82FA9F802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Государственный метрологический надзор и контрол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Лекция 9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2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иды контрол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Утверждению типа подлежат средства измерени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и ввозе на территорию РФ, а также средства измерений, предназначенные для выпуска из производства.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цедура утверждения предусматривает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язательные испытания средств измерений,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нятие решения об утверждении типа,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ff505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государственную регистрацию и выдачу «Сертификата об утверждении типа»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191-5A74-4223-B94C-C063713750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2" descr="http://metrologyia.ru/wp-content/uploads/2008/09/d181d185d0b5d0bcd0b0-1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189000"/>
            <a:ext cx="3527640" cy="3348000"/>
          </a:xfrm>
          <a:prstGeom prst="rect">
            <a:avLst/>
          </a:prstGeom>
          <a:ln w="0">
            <a:noFill/>
          </a:ln>
        </p:spPr>
      </p:pic>
      <p:pic>
        <p:nvPicPr>
          <p:cNvPr id="99" name="i-main-pic" descr="Картинка 7 из 118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3573360"/>
            <a:ext cx="2670120" cy="2670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6" descr="http://m-automatica.ru/catalog/sg/doc/sert_izm.jpg"/>
          <p:cNvPicPr/>
          <p:nvPr/>
        </p:nvPicPr>
        <p:blipFill>
          <a:blip r:embed="rId6"/>
          <a:stretch/>
        </p:blipFill>
        <p:spPr>
          <a:xfrm>
            <a:off x="611280" y="189000"/>
            <a:ext cx="4392360" cy="629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818-8D73-49B0-B592-EB070AE40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http://trei-5b.ru/images/sert_tipa_1503_big.jpg"/>
          <p:cNvPicPr/>
          <p:nvPr/>
        </p:nvPicPr>
        <p:blipFill>
          <a:blip r:embed="rId2"/>
          <a:stretch/>
        </p:blipFill>
        <p:spPr>
          <a:xfrm>
            <a:off x="395280" y="189000"/>
            <a:ext cx="4616280" cy="6480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0" descr="Знак утверждения типа средств измерений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177336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3B0-3DCC-4651-BCB8-9806C8F32A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09-11-05T08:06:09Z</dcterms:modified>
  <cp:revision>11</cp:revision>
  <dc:subject/>
  <dc:title>PowerPoint Presentation</dc:title>
</cp:coreProperties>
</file>