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D7891-E501-4913-9E22-F4C3A16B1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2218C-9A9A-4547-9295-56913AF7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1D017-65CC-49FA-828D-00B57357E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9700B-4E62-42A3-A9F8-4AD48D7D6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0992-496C-4A3D-9401-ECEF6656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FB18-5C25-4F95-B4B4-578D0B8F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A23A-4F61-41AD-A411-82ABB3ED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9BBE-5E8E-4D5B-B93B-2E3AFC77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A313-5770-4637-95F4-BEFF2E5C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3E54-E59C-4387-B65D-19EE07D3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ACFA-8017-4260-B8B7-2B7F92A9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81CAE-AFCF-42F6-B363-A4F9D66A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0768-87BC-42B8-A5E8-6D5EB38B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3D06-991C-4991-A462-6A9D6A26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DA7B-1A56-4FA8-8547-D1EA123C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A977-4BB6-4509-B87A-9B47D8B3D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79CB-D894-46B9-A50E-106316B3D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77B4A-DF84-4236-8895-0C58EF20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BCB66-52A4-4C76-9E62-0FEE102F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B67FB-1780-4071-9C58-09DD03B3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BF8DC-1B7E-4B56-A77D-A22F1DC6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522CE-F2DF-4912-9E5B-7679DF27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DEEBA-43CB-4A31-93E9-8BEDD4CE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8CEE9-3024-46E2-908A-987C7602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88C3-2463-4971-8E90-DCF87306AE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808F-54FB-46C2-A2AA-A81F31BB3A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РЕДСТВА ИЗМЕРЕНИЙ, ИХ КЛАССИФИКАЦИЯ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Лекция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92360" y="4267080"/>
            <a:ext cx="72993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47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ан лек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ассификация средств измер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рологические характеристики С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ассы точ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бор средств измер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Средства измерений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66"/>
                </a:solidFill>
                <a:latin typeface="Arial"/>
              </a:rPr>
              <a:t>лекция 5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 Классы то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ласс точности — обобщенная характеристика точности СИ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оответствии с ГОСТ 8.401—80 «ГСИ. Классы точности средств измерений. Общие требования», классы точности устанавливаются для СИ, у которых погрешность нормируется в виде пределов допускаемой основной и дополнительных погрешно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ассы точности присваиваются СИ при их разработке по результатам метрологической аттестации и подтверждаются (или не подтверждаются) при периодических поверках СИ в процессе эксплуат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23722-D0EC-42D8-AD47-707C33D934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Средства измерений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66"/>
                </a:solidFill>
                <a:latin typeface="Arial"/>
              </a:rPr>
              <a:t>лекция 5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 Классы то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особ выражения предела допускаемой основной погрешности определяется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значением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 и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характером изменения погреш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 пределах диапазона измер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, для которых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еобладает аддитивная составляющая погреш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, для которых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еобладает мультипликативная составляющая погреш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, для которых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еобходимо учитывать об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аддитивную и мультипликативную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оставляющие погреш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9F973-8C3C-4005-9533-3A85AD0FD9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Средства измерений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66"/>
                </a:solidFill>
                <a:latin typeface="Arial"/>
              </a:rPr>
              <a:t>лекция 5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 Классы то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65188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группе СИ, для которых преобладает аддитивная составляющая погрешности, предел допускаемой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бсолютной погреш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ΔХ =±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ряде случаев оказывается удобно нормировать предел допускаемой абсолютной основной погреш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асс точности в этом случае принято обозначать путем указания числ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как, например, для микрометр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±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0,01 мм) либо в виде условных обозначений, в качестве которых используют римские цифры или прописные буквы латинского алфавита. Причем классам точности, которым соответствуют меньшие пределы допускаемых погрешностей, должны соответствовать меньшие цифры или буквы, находящиеся ближе к началу алфави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B8AE3-66E8-448B-948A-53AB273C79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50560" y="1988640"/>
            <a:ext cx="86518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СИ имеют разные диапазоны измерений или являются многопредельными, т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более удобно нормировать предел допускаемой основной приведенной погрешнос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γ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 выражать его в процент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нормирующее знач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Средства измерений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66"/>
                </a:solidFill>
                <a:latin typeface="Arial"/>
              </a:rPr>
              <a:t>лекция 5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 Классы то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771640" y="3789360"/>
            <a:ext cx="3097440" cy="109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29131-F21F-4BB4-BEC5-6909DC8222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Средства измерений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66"/>
                </a:solidFill>
                <a:latin typeface="Arial"/>
              </a:rPr>
              <a:t>лекция 5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 Классы то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рмирующее значение выбирается в зависимости от особенностей конкретного СИ. В соответствии с ГОСТ 8.401—80 нормирующее значение принимают равны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чному значению шкалы прибора 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ля СИ с равномерной шкалой, практически равномерной и степенной шкалой, если нулевая отметка находится на краю или вне шкалы (например, для амперметра со шкалой 0...1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= 10 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мме конечных значений шкалы прибора (без учета знаков), если нулевая отметка находится внутри шкалы (например, для миллиамперметра со шкалой 50...0...100 мА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К2</a:t>
            </a:r>
            <a:fld id="{C6DED9BC-4B22-4EF4-AF2D-288D2891C032}" type="slidenum"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50 + 100= 150 м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0DF14-D601-463F-A985-614AEA0842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Средства измерений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66"/>
                </a:solidFill>
                <a:latin typeface="Arial"/>
              </a:rPr>
              <a:t>лекция 5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 Классы то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878544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4520" indent="-34452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инальному значению измеряемой величины, если таковое установлено (например, для частотомера, предназначенного для контроля частоты питающей сети со шкалой 45...50...55 Гц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 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н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50 Гц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ине шкалы (выраженной в мм), если шкала имеет резко сужающиеся деления (логарифмические, гиперболические шкалы, как, например, шкала омметр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приборов со шкалой, градуированной в единицах ФВ, для которой принята шкала с условным нулем (например, для приборов, измеряющих температуру в градусах Цельсия), нормирующее значение принимается равным разности конечного и начального значений шкалы (т. е. диапазону измерени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C2EBD-B536-4343-BC8A-8B7F4A6699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Средства измерений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66"/>
                </a:solidFill>
                <a:latin typeface="Arial"/>
              </a:rPr>
              <a:t>лекция 5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 Классы то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кретное значение приведенной погрешности для присвоения СИ класса точности следует выбирать из ряда предпочтительных чисел, регламентированного ГОСТ 13600—68 (выбирается ближайшее число со стороны больших значений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асс точности указывается в технической документации на СИ и в виде условного обозначения наносится на шкалу или корпус измерительного приб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для СИ нормируется предел допускаемой основной приведенной погрешности, то условное обозначение класса точности представляет собой само число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выраженное в процентах (например, 0,5 или 2,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453440" y="5589720"/>
            <a:ext cx="501480" cy="718920"/>
            <a:chOff x="7453440" y="5589720"/>
            <a:chExt cx="501480" cy="718920"/>
          </a:xfrm>
        </p:grpSpPr>
        <p:sp>
          <p:nvSpPr>
            <p:cNvPr id="213" name=""/>
            <p:cNvSpPr/>
            <p:nvPr/>
          </p:nvSpPr>
          <p:spPr>
            <a:xfrm>
              <a:off x="7523280" y="5877000"/>
              <a:ext cx="21600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7739280" y="5876640"/>
              <a:ext cx="215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53440" y="55897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8174160" y="5516640"/>
            <a:ext cx="501480" cy="718920"/>
            <a:chOff x="8174160" y="5516640"/>
            <a:chExt cx="501480" cy="718920"/>
          </a:xfrm>
        </p:grpSpPr>
        <p:sp>
          <p:nvSpPr>
            <p:cNvPr id="217" name=""/>
            <p:cNvSpPr/>
            <p:nvPr/>
          </p:nvSpPr>
          <p:spPr>
            <a:xfrm>
              <a:off x="8244000" y="5803920"/>
              <a:ext cx="21600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8460000" y="5803560"/>
              <a:ext cx="215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174160" y="551664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324000" y="5445000"/>
            <a:ext cx="69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ля СИ с резко нелинейной шкалой (когда нормирующее значение N равно длине шкалы) условное обозначение класса точности имеет в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70AD5-C6D4-409F-A718-47A318FF15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Средства измерений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66"/>
                </a:solidFill>
                <a:latin typeface="Arial"/>
              </a:rPr>
              <a:t>лекция 5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 Классы то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В группе СИ, для которых преобладает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ультипликативная составляющ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грешности, предел допускаемой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бсолютной погреш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можно записать в следующем вид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ΔХ = 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4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— положительное число, не зависящее о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ходя к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носительным погрешностя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0920" y="5084640"/>
            <a:ext cx="4753080" cy="118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7AD83-2730-4D28-8E6F-075D8971E2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Средства измерений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66"/>
                </a:solidFill>
                <a:latin typeface="Arial"/>
              </a:rPr>
              <a:t>лекция 5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 Классы то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СИ этой группы числовое значени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выраженное в процентах, выбирается из того же ряда предпочтительных чисел и указывается в технической документации в качестве класса точ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ловное обозначение класса точности на шкале или на корпусе прибора имеет вид, напри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19640" y="5157720"/>
            <a:ext cx="792000" cy="79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5157720"/>
            <a:ext cx="792360" cy="79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C6F67-DFED-464D-84E1-101FCAA485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Средства измерений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66"/>
                </a:solidFill>
                <a:latin typeface="Arial"/>
              </a:rPr>
              <a:t>лекция 5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 Классы то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497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 В группе СИ, для которых необходимо учитывать как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ддитивну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ак 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ультипликативну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ставляющие погрешности, предел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пускаемой абсолютной погреш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можно выразить в виде суммы двух член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±(а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Х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— значение измеряемой величи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жительные числа, не зависящие о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ел допускаемой основной погрешности для приборов этой группы нормируется по величине приведенной погреш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рмирующей величиной является конечное значение шкалы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 но приведенная погрешность определяется в двух точках шкалы: при Х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начальная отметка шкалы) и при Х= Х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конечная отметка шкал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16837-EEF3-41FE-B143-18242E49ED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404640"/>
            <a:ext cx="82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МИ 2314-00 Кодификатор групп средств измер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240" y="981000"/>
            <a:ext cx="9140400" cy="5142960"/>
            <a:chOff x="3240" y="981000"/>
            <a:chExt cx="9140400" cy="5142960"/>
          </a:xfrm>
        </p:grpSpPr>
        <p:sp>
          <p:nvSpPr>
            <p:cNvPr id="110" name=""/>
            <p:cNvSpPr/>
            <p:nvPr/>
          </p:nvSpPr>
          <p:spPr>
            <a:xfrm>
              <a:off x="3249000" y="3443760"/>
              <a:ext cx="2643840" cy="276480"/>
            </a:xfrm>
            <a:prstGeom prst="rect">
              <a:avLst/>
            </a:prstGeom>
            <a:gradFill rotWithShape="0">
              <a:gsLst>
                <a:gs pos="0">
                  <a:srgbClr val="666699">
                    <a:alpha val="70196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Виды средств измере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1200" y="2455920"/>
              <a:ext cx="1058040" cy="550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 степени универсальнос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19200" y="2455920"/>
              <a:ext cx="1057680" cy="6300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 назначению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52120" y="2455920"/>
              <a:ext cx="1057680" cy="550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 измеряемым величина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85040" y="2455920"/>
              <a:ext cx="1057680" cy="6300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МГ 29-9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19760" y="2455920"/>
              <a:ext cx="1057680" cy="537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 связи с объекто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52680" y="2455920"/>
              <a:ext cx="1057680" cy="6300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 режиму работ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85960" y="2455920"/>
              <a:ext cx="1057680" cy="550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 характеру использован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6360" y="4039200"/>
              <a:ext cx="1057680" cy="550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 виду регистрации сигнал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89280" y="4039200"/>
              <a:ext cx="1057680" cy="550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 виду выходного сигнал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22200" y="4039200"/>
              <a:ext cx="1058040" cy="550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 степени автоматизац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56920" y="4039200"/>
              <a:ext cx="1058040" cy="550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 виду преобразования сигнал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89840" y="4039200"/>
              <a:ext cx="1209240" cy="550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 виду приема передачи информац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74680" y="4039200"/>
              <a:ext cx="1057680" cy="6300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 виду шкал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09040" y="4039200"/>
              <a:ext cx="1057680" cy="550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 поверочной схем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84480" y="2455920"/>
              <a:ext cx="1057680" cy="550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 виду оценки параметр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4440" y="4806000"/>
              <a:ext cx="991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Показывающи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Регистрирующи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Самописцы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Печатающи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15480" y="4813200"/>
              <a:ext cx="75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Аналоговы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Цифровы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Аналогово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цифровы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47320" y="4813200"/>
              <a:ext cx="11329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Неавтоматизированны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Автоматизированны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Автоматически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080600" y="4813200"/>
              <a:ext cx="11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Прямого действи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Сравнени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Интегрирующи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14960" y="4813200"/>
              <a:ext cx="113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Одноканальны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Многоканальны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99440" y="4813200"/>
              <a:ext cx="11329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С равномерной шкалой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С неравномерной шкалой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С нулевой отметкой внутри шкалы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С нулевой отметкой на краю или вне шкалы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32360" y="4813200"/>
              <a:ext cx="1132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Рабочи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Образцовы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Рабочие эталоны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40" y="1996560"/>
              <a:ext cx="122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Специализированны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Универсальны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11400" y="1829520"/>
              <a:ext cx="106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Допусковы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Измерительны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Комбинированны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5040" y="1669680"/>
              <a:ext cx="1000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Диагностически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Прогнозирующи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Контрольны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Испытательны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79040" y="1000080"/>
              <a:ext cx="1044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Механически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Гидравлически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Пневматически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Акустически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Электрически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Электронны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Прочие и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комбинированны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14120" y="981000"/>
              <a:ext cx="1009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Измерительные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системы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Измерительные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установк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Измерительные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приборы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Измерительные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преобразовател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43800" y="1996560"/>
              <a:ext cx="75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Встроенны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Внешни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80320" y="1964160"/>
              <a:ext cx="86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Динамически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Статически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13240" y="1964160"/>
              <a:ext cx="87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Лабораторны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Технически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73E5F-A9BD-407E-84D4-7F3BD6FD18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Средства измерений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66"/>
                </a:solidFill>
                <a:latin typeface="Arial"/>
              </a:rPr>
              <a:t>лекция 5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 Классы то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755640" y="2852640"/>
            <a:ext cx="2664000" cy="9590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716360" y="3141720"/>
            <a:ext cx="3673440" cy="7524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1908000" y="4437000"/>
            <a:ext cx="4969080" cy="9684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95280" y="177192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веденная погрешность для любой точки шкалы (в процентах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4800" y="5609160"/>
            <a:ext cx="78206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— приведенная погрешность в начале шкал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приведенная погрешность в конце шка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2E573-F4C9-43C6-8297-1A98F600B0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Средства измерений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66"/>
                </a:solidFill>
                <a:latin typeface="Arial"/>
              </a:rPr>
              <a:t>лекция 5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 Классы то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6908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исловые значения γ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γ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выраженные в процентах, выбираются из ряда чисел, регламентированных ГОСТом, и приводятся в технической документации в качестве класса точности СИ, имеющего аддитивную и мультипликативную составляющие погреш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словное обозначение класса точности на шкале или на корпусе прибора имеет вид дроб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619280" y="5300640"/>
            <a:ext cx="1297080" cy="11890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508720" y="5373720"/>
            <a:ext cx="1368360" cy="101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C3EE2-4FBA-4D08-A023-10A6679239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Средства измерений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66"/>
                </a:solidFill>
                <a:latin typeface="Arial"/>
              </a:rPr>
              <a:t>лекция 5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 Классы то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569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ля средств измерения этой групп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редел допускаемой основной абсолютно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редел допускаемой основной относительно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грешностей можно запис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84360" y="3141720"/>
            <a:ext cx="8135640" cy="973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187280" y="4653000"/>
            <a:ext cx="6913800" cy="12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D9041-376E-410F-A8FF-B86643E9D1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Средства измерений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66"/>
                </a:solidFill>
                <a:latin typeface="Arial"/>
              </a:rPr>
              <a:t>лекция 5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4 Выбор средства измер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69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бор СИ по коэффициенту уточн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самый простой способ, предусматривающий сравнение точности измерения и точности изготовления объекта контроля. Здесь предусматривается введение коэффициента уточнения К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коэффициента закона точности) при известном допуске Т и предельном значении [Δизм ] погрешности изме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оответствии с ГОСТ 8.051-81 значения пределов допускаемый погрешностей [Δ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из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] для линейных размеров задаются в зависимости от допусков и квалитета (по таблицам)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[Δизм ]=(0,20-0,35)Т=ρ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4500720" y="3789360"/>
                <a:ext cx="295092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К</m:t>
                        </m:r>
                      </m:e>
                      <m:sub>
                        <m:r>
                          <m:t xml:space="preserve">Т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Т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изм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43426-EDC7-4C33-9BB1-E422C72CEA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Средства измерений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66"/>
                </a:solidFill>
                <a:latin typeface="Arial"/>
              </a:rPr>
              <a:t>лекция 5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4 Выбор средства измер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6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линейных размеров указанное соотношение между [Δ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из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] и Т от 20 до 35% соответствует К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2,5-1,4. При выборе СИ по величине К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еобходимо иметь соответствующие справочные данные о погрешностях конкретных СИ. Если измеряемый размер попадает в стандартизированный ГОСТ 8.051-81 интервал 0…500 мм, то используют среднее значение Кт.ср=(2,5+1,4)/2, а предел основной допускаемой погрешности СИ находят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тем по таблицам выбирают ближайшее СИ с такой погреш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419640" y="4508640"/>
                <a:ext cx="25207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sub>
                        </m:sSub>
                      </m:den>
                    </m:f>
                    <m:r>
                      <m:t xml:space="preserve">≥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и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91532-77A8-4897-ADB8-C0545DE49E7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Средства измерений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66"/>
                </a:solidFill>
                <a:latin typeface="Arial"/>
              </a:rPr>
              <a:t>лекция 5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4 Выбор средства измер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569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бор СИ по принципу безошибочности контрол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предполагает предварительную оценку вероятности ошибок первого и второго 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ценивают (или обосновано задают) законы распределения контролируемого параметра и погрешности изме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дают соответствующие вероятности ошибок первого и второго 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 таблицам (справочные данные) находят соответствующее значение коэффициента уточнения К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известном допуске на параметр выбирают СИ по таблиц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7D270-45B2-46F2-9DD2-A54EC5ABC26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Средства измерений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66"/>
                </a:solidFill>
                <a:latin typeface="Arial"/>
              </a:rPr>
              <a:t>лекция 5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4 Выбор средства измер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569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ыбор СИ с учетом безошибочности контроля и его стоимост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осуществляется как метод оптимизации по критериям точности (классу точности γ или абсолютной предельной погрешности Δси) СИ, его стоимости Сси и достоверности измер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ыбор СИ по технико-экономическим показателя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является предпочтительным при эксплуатационном контроле ТС, поскольку позволяет принять во внимание как метрологические характеристики СИ, так и технико-экономические показатели эксплуатации самой ТС с учетом её ресурса, межконтрольной наработки, издержки на ТО и ремонт. В основу метода положен критерий оптимизации точности измерения, устанавливающий связь между точностью и удельными издержками на контрольно-диагностические операции с учетом дополнительных ТО и ремонтов ТС из-за погрешностей в оценке параметров её технического состоя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966BC-7B22-4DED-A50B-7485A9341EA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Средства измерений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66"/>
                </a:solidFill>
                <a:latin typeface="Arial"/>
              </a:rPr>
              <a:t>лекция 5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1 Классификация 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79280" y="1844640"/>
            <a:ext cx="8715600" cy="4753080"/>
            <a:chOff x="179280" y="1844640"/>
            <a:chExt cx="8715600" cy="4753080"/>
          </a:xfrm>
        </p:grpSpPr>
        <p:sp>
          <p:nvSpPr>
            <p:cNvPr id="143" name=""/>
            <p:cNvSpPr/>
            <p:nvPr/>
          </p:nvSpPr>
          <p:spPr>
            <a:xfrm>
              <a:off x="2627280" y="1844640"/>
              <a:ext cx="3960720" cy="4334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Средства измерен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4000" y="2637000"/>
              <a:ext cx="1368360" cy="9363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Ме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Ф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0920" y="3645000"/>
              <a:ext cx="1728720" cy="9363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ред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равн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0920" y="4724280"/>
              <a:ext cx="2808360" cy="108108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Измеритель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реобразовател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08720" y="2565360"/>
              <a:ext cx="3168720" cy="936720"/>
            </a:xfrm>
            <a:prstGeom prst="cube">
              <a:avLst>
                <a:gd name="adj" fmla="val 25000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Измерительны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рибо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80000" y="3645000"/>
              <a:ext cx="3168720" cy="936360"/>
            </a:xfrm>
            <a:prstGeom prst="cube">
              <a:avLst>
                <a:gd name="adj" fmla="val 25000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Измеритель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установ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6720" y="4797360"/>
              <a:ext cx="3168360" cy="936720"/>
            </a:xfrm>
            <a:prstGeom prst="cube">
              <a:avLst>
                <a:gd name="adj" fmla="val 25000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Измеритель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истем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9280" y="6093000"/>
              <a:ext cx="2448000" cy="504720"/>
            </a:xfrm>
            <a:prstGeom prst="roundRect">
              <a:avLst>
                <a:gd name="adj" fmla="val 16667"/>
              </a:avLst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нформационные И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87640" y="6093000"/>
              <a:ext cx="2448000" cy="504720"/>
            </a:xfrm>
            <a:prstGeom prst="roundRect">
              <a:avLst>
                <a:gd name="adj" fmla="val 16667"/>
              </a:avLst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нтролирующие И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96000" y="6093000"/>
              <a:ext cx="2448000" cy="504720"/>
            </a:xfrm>
            <a:prstGeom prst="roundRect">
              <a:avLst>
                <a:gd name="adj" fmla="val 16667"/>
              </a:avLst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Управляющие И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77080" y="4797360"/>
              <a:ext cx="2017800" cy="936720"/>
            </a:xfrm>
            <a:prstGeom prst="roundRect">
              <a:avLst>
                <a:gd name="adj" fmla="val 16667"/>
              </a:avLst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змерительно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ычислите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43280" y="2276640"/>
              <a:ext cx="0" cy="24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692000" y="2997360"/>
              <a:ext cx="11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979280" y="393372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56000" y="227664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56000" y="299736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56000" y="393372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1331640" y="5734080"/>
              <a:ext cx="309564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27640" y="573408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7640" y="5734080"/>
              <a:ext cx="23050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43640" y="5229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19C8A-E59B-4BCF-B4B8-46FEFDFFF9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Средства измерений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66"/>
                </a:solidFill>
                <a:latin typeface="Arial"/>
              </a:rPr>
              <a:t>лекция 5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1 Классификация 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метрологическому назнач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19640" y="3860640"/>
            <a:ext cx="3384720" cy="64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чие 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11280" y="2708280"/>
            <a:ext cx="7561080" cy="3887640"/>
            <a:chOff x="611280" y="2708280"/>
            <a:chExt cx="7561080" cy="3887640"/>
          </a:xfrm>
        </p:grpSpPr>
        <p:sp>
          <p:nvSpPr>
            <p:cNvPr id="168" name=""/>
            <p:cNvSpPr/>
            <p:nvPr/>
          </p:nvSpPr>
          <p:spPr>
            <a:xfrm>
              <a:off x="2700360" y="2708280"/>
              <a:ext cx="3529080" cy="5763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редства измерен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1280" y="3860640"/>
              <a:ext cx="3384360" cy="6480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этало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59280" y="4869000"/>
              <a:ext cx="2808360" cy="4316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лаборатор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59280" y="5516640"/>
              <a:ext cx="2808360" cy="4316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оизводствен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59280" y="6093000"/>
              <a:ext cx="2808360" cy="4316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оле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92360" y="4869000"/>
              <a:ext cx="2808360" cy="4316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ервич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92360" y="5516640"/>
              <a:ext cx="2808360" cy="4316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торич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92360" y="6164280"/>
              <a:ext cx="2808360" cy="4316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абочий (разрядный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2195640" y="3284640"/>
              <a:ext cx="223200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27640" y="3284640"/>
              <a:ext cx="244944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16000" y="50133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16000" y="4508640"/>
              <a:ext cx="0" cy="18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16000" y="63086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16000" y="57326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172360" y="4508640"/>
              <a:ext cx="0" cy="18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7667640" y="50846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7667640" y="573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7667640" y="630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31329-1CA3-42E5-8842-5F16B92A8D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Средства измерений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66"/>
                </a:solidFill>
                <a:latin typeface="Arial"/>
              </a:rPr>
              <a:t>лекция 5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2 Метрологические характерис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етрологическая характеристика средства измерения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это характеристика одного из свойств средства измерения, влияющая на результат измерения и на его погреш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рологические характеристики, устанавливаемые нормативно-техническими документами, называю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ормируемы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етрологическими характеристиками, а определяемые экспериментально —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действительны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етрологическими характерист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чень метрологических характеристик, правила выбора комплекса нормируемых метрологических характеристик для средств измерений и способы их нормирования изложены в ГОСТ 8.009-84 «ГСИ. Нормируемые метрологические характеристики средств измерени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269C4-C10A-4D28-B88C-00E0BCCD19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Средства измерений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66"/>
                </a:solidFill>
                <a:latin typeface="Arial"/>
              </a:rPr>
              <a:t>лекция 5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2 Метрологические характерис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рологические показа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лина деления шкалы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расстояние между серединами двух соседних отметок (штрихов, точек и т. п.) шка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Цена деления шкалы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разность значений величин, соответствующих двум соседним отметкам шкалы (у микрометра она равна 0,01 м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радуировочная характеристика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исимость между значениями величин на выходе и входе средства измер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иапазон показани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область значений шкалы, ограниченная конечным и начальным значениями шкалы, то есть наибольшим и наименьшим значениями измеряемой велич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08E98-B65E-4E2E-8240-E873C9DF6F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Средства измерений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66"/>
                </a:solidFill>
                <a:latin typeface="Arial"/>
              </a:rPr>
              <a:t>лекция 5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2 Метрологические характерис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785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иапазон измерений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сть значений измеряемой величины, в пределах которой нормированы допускаемые пределы погрешности средства изме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увствительно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ора — отношение изменения сигнала на выходе измерительного прибора к изменению измеряемой величины (сигнала) на входе. Так, если изменение измеряемой величины составил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Δd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,01 мм, что вызвало перемещение стрелки показывающего устройства н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10 мм, т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бсолютная чувствительно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ора составляе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Δl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/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/0,01 = 1000. Для шкальных измерительных приборов абсолютная чувствительность численно равна передаточному отно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31A62-487F-4892-A04C-1FE681EE55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Средства измерений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66"/>
                </a:solidFill>
                <a:latin typeface="Arial"/>
              </a:rPr>
              <a:t>лекция 5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2 Метрологические характерис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риа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естабильность) показаний прибора — алгебраическая разность между наибольшим и наименьшим результатами измерений при многократном измерении одной и той же величины в неизменных усло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абильно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ства измерений — свойство, выражающее неизменность вовремени его метрологических характеристик (показан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07EA0-CA39-4A97-BC84-9003E21234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Средства измерений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66"/>
                </a:solidFill>
                <a:latin typeface="Arial"/>
              </a:rPr>
              <a:t>лекция 5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2 Метрологические характерис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0" t="2404" r="2480" b="10988"/>
          <a:stretch/>
        </p:blipFill>
        <p:spPr>
          <a:xfrm>
            <a:off x="250920" y="1773360"/>
            <a:ext cx="8281800" cy="435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90809-C72B-4D5F-BADE-30C25C668F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4:54:39Z</dcterms:created>
  <dc:creator>Worker</dc:creator>
  <dc:description/>
  <dc:language>en-US</dc:language>
  <cp:lastModifiedBy>*</cp:lastModifiedBy>
  <dcterms:modified xsi:type="dcterms:W3CDTF">2009-10-06T07:03:03Z</dcterms:modified>
  <cp:revision>22</cp:revision>
  <dc:subject/>
  <dc:title>СРЕДСТВА ИЗМЕРЕНИЙ, ИХ КЛАССИФИКАЦИЯ     Лекция 5</dc:title>
</cp:coreProperties>
</file>