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719-3E4F-472A-AB6E-34D8F0569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характеристикам измерений, которые определяют и качество измерений, относятся: принцип, метод, погрешность результатов измерения, точность, правильность, сходимость и воспроизводимость результатов измерений. Последовательность операций выполнения измерений, правила и приемы, позволяющие получить результат с требуемой точностью, излагаются в документе, который называется методикой выполнения измерений (МВИ). МВИ должна содержать метрологические характеристики и быть аттестована соответствующими метрологическими служб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им определения основным характеристикам изме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зическое явление (физический закон или эффект), положенное в основу измерений. Например, применение эффекта Доплера для измерения скорости движения звезд, вращения небесных т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рием или совокупность приемов сравнения измеряемой физической величины с ее единицей в соответствии с реализованным принципом измерений. Например, определение структуры соединений методом ядерного магнитного резонанса или методом инфракрасной спектроско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грешность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тклонение результатов измерений от истинного (действительного) значения измеряемой величины. Погрешность измерений представляет собой сумму целого ряда составляющих, каждая из которых имеет свою прич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характеристикам измерений, которые определяют и качество измерений, относятся: принцип, метод, погрешность результатов измерения, точность, правильность, сходимость и воспроизводимость результатов измерений. Последовательность операций выполнения измерений, правила и приемы, позволяющие получить результат с требуемой точностью, излагаются в документе, который называется методикой выполнения измерений (МВИ). МВИ должна содержать метрологические характеристики и быть аттестована соответствующими метрологическими служб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им определения основным характеристикам изме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зическое явление (физический закон или эффект), положенное в основу измерений. Например, применение эффекта Доплера для измерения скорости движения звезд, вращения небесных т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рием или совокупность приемов сравнения измеряемой физической величины с ее единицей в соответствии с реализованным принципом измерений. Например, определение структуры соединений методом ядерного магнитного резонанса или методом инфракрасной спектроско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грешность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тклонение результатов измерений от истинного (действительного) значения измеряемой величины. Погрешность измерений представляет собой сумму целого ряда составляющих, каждая из которых имеет свою прич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ходим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это близость друг к другу результатов измерений одной и той же величины, выполненных повторно одним и тем же средством, одним и тем же методом в одинаковых условиях и с одинаковой тщательность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оспроизводим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близость результатов измерений одной и той же величины, полученных в разных местах, разными методами, разными средствами, разными операторами, в разное время, но приведенных к одним и тем же условиям измерений (температура, давление, влажность и др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очн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характеристика качества измерений, отражающая близость к нулю значения погрешности результатов измерений. Высокая точность измерений соответствует малым величинам погрешностей измер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2002 году в России введены в действие государственные стандарты ГОСТ Р ИСО 5725-2002 части 1-6 под общим заголовком «Точность (правильность и прецизионность) методов и результатов измерений», которые являются прямым применением шести частей основополагающего Международного стандарта ИСО 5725. Эти стандарты используются в практической деятельности при разработке, аттестации и применении методик выполнения измерений, стандартизации методик контроля (испытаний, измерений, анализа), испытаниях продукции, в том числе для целей подтверждения соответствия, оценки компетентности испытательных лабораторий согласно требованиям ГОСТ Р ИСО/МЭК 17025-2000. Стандарты ИСО 5725 могут применяться для оценки точности выполнения измерений различных физических величин, характеризующих измеряемые свойства того или иного  объекта, в соответствии со стандартизованной процедурой. Следует отметить, что в отечественной метрологии точность и погрешность результатов измерений, как правило, определяются сравнением результатов измерений с истинным или действительным (условно истинным) значением измеряемой физической величины. Часто за действительное значение принимают общее среднее значение (математическое ожидание) установленной совокупности результатов измерений. В ИСО 5725 вместо термина «действительное значение» введен термин «принятое опорное значение», который и рекомендуется для использования в практике. Термины «правильность» и «прецизионность» в отечественных нормативных документах по метрологии до введения стандартов ГОСТ Р ИСО 5725-2002 не использовалис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дим определение этих термин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арактеризует степень близости среднего арифметического значения большого числа результатов измерений к истинному (действительному) или принятому опорному значению. Показателем правильности обычно является значение систематической погрешно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ецизионность —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епень близости друг к другу независимых результатов измерений, полученных в конкретных регламентированных условиях. Мера прецизионности обычно вычисляется как стандартное отклонение результатов измерений. Крайние показатели прецизионности — повторяемость (сходимость) и воспроизводимость широко используются в отечественных нормативных документах, в том числе в большинстве государственных стандартов на методы контроля. Термин «точность» в соответствии с ГОСТ Р ИСО 5725-1-2002 определяется как степень близости результата измерений к применяемому опорному значен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дрение стандартов ГОСТ Р ИСО 5725 только начинается в России и направлено на более эффективную реализацию требований Российской государственной системы стандартизации при разработке стандартов на методы контроля продукции различных отраслей промышленно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ким образом, при правильном выборе метода измерений, повышая такие показатели как точность, правильность, уменьшая погрешности измерений, можно достигать высокого качества измерен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ходим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это близость друг к другу результатов измерений одной и той же величины, выполненных повторно одним и тем же средством, одним и тем же методом в одинаковых условиях и с одинаковой тщательность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оспроизводим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близость результатов измерений одной и той же величины, полученных в разных местах, разными методами, разными средствами, разными операторами, в разное время, но приведенных к одним и тем же условиям измерений (температура, давление, влажность и др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очн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— характеристика качества измерений, отражающая близость к нулю значения погрешности результатов измерений. Высокая точность измерений соответствует малым величинам погрешностей измер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2002 году в России введены в действие государственные стандарты ГОСТ Р ИСО 5725-2002 части 1-6 под общим заголовком «Точность (правильность и прецизионность) методов и результатов измерений», которые являются прямым применением шести частей основополагающего Международного стандарта ИСО 5725. Эти стандарты используются в практической деятельности при разработке, аттестации и применении методик выполнения измерений, стандартизации методик контроля (испытаний, измерений, анализа), испытаниях продукции, в том числе для целей подтверждения соответствия, оценки компетентности испытательных лабораторий согласно требованиям ГОСТ Р ИСО/МЭК 17025-2000. Стандарты ИСО 5725 могут применяться для оценки точности выполнения измерений различных физических величин, характеризующих измеряемые свойства того или иного  объекта, в соответствии со стандартизованной процедурой. Следует отметить, что в отечественной метрологии точность и погрешность результатов измерений, как правило, определяются сравнением результатов измерений с истинным или действительным (условно истинным) значением измеряемой физической величины. Часто за действительное значение принимают общее среднее значение (математическое ожидание) установленной совокупности результатов измерений. В ИСО 5725 вместо термина «действительное значение» введен термин «принятое опорное значение», который и рекомендуется для использования в практике. Термины «правильность» и «прецизионность» в отечественных нормативных документах по метрологии до введения стандартов ГОСТ Р ИСО 5725-2002 не использовалис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дим определение этих термин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арактеризует степень близости среднего арифметического значения большого числа результатов измерений к истинному (действительному) или принятому опорному значению. Показателем правильности обычно является значение систематической погрешно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ецизионность —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епень близости друг к другу независимых результатов измерений, полученных в конкретных регламентированных условиях. Мера прецизионности обычно вычисляется как стандартное отклонение результатов измерений. Крайние показатели прецизионности — повторяемость (сходимость) и воспроизводимость широко используются в отечественных нормативных документах, в том числе в большинстве государственных стандартов на методы контроля. Термин «точность» в соответствии с ГОСТ Р ИСО 5725-1-2002 определяется как степень близости результата измерений к применяемому опорному значен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дрение стандартов ГОСТ Р ИСО 5725 только начинается в России и направлено на более эффективную реализацию требований Российской государственной системы стандартизации при разработке стандартов на методы контроля продукции различных отраслей промышленно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ким образом, при правильном выборе метода измерений, повышая такие показатели как точность, правильность, уменьшая погрешности измерений, можно достигать высокого качества измерен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) уравнение связи между числовыми значен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) Уравнения связи между величинами имеет вид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, 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n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екоторым уравнением связи. Они представляют соотношение между величинами в общем виде, независимо от едини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) Второй вид уравнен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это уравнения связи между числовыми значениями. Входящие в уравнение величины можно представить в соответствии с основным уравнением измерений в ви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;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— числовые значения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1], 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],…[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— единицы величин. С учетом этого, уравнение связи между числовыми значениями приводится к уравнению размер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является производной относительно величин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2,..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эти величины являются основными, то показатели степени а1; а2, ... ат называются размерностью производной величины относительно основных, т.е. единица производ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ладает размерностью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1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носительно размерности основной величины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, размерностью а2, относительно размерност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пример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 или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=0.5·10-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.е. Ке=10-6 м2/мм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297D-93BF-4AE2-A56D-5B42E154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4371-31A4-4F18-B854-37318B1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0775-02FE-42A1-A93E-8A63EBD6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F526-4A51-402C-ABF2-9ECD6C50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0A2A-32BE-4AC6-A940-B184ACCA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6D5E-E4F3-4E56-B617-E33BCCB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B88-8462-4CF8-B957-359BD8E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A2F-9F27-40DE-94F7-1479781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249F-1E2A-4367-ADCD-1D20B86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4FAE-3C9C-4755-A0A3-E008520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9C8-A9D0-49C6-9C45-AEFD351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965D-05C5-406A-8677-9C92C1F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E83B-2A11-40E9-82A5-B504C82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97BD-6A35-498A-857D-5F7E498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678-5692-481E-901C-C6C89B0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16A-1DE2-4C88-97AC-D76B7E9C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E20-A4F7-4338-96DA-E834F088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0A8B-842F-4865-A8C1-7B61B76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6192-458A-448F-99B8-978FA533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9166-7FA0-4B92-AF17-3685EB8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6426-C917-48E7-99C5-73F5ADE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3CC4-EF45-4DCB-BD91-CF4B552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E551-9F40-4C20-A19A-2BDDAF4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5F75-5A4F-4F23-9B56-3467276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DF2-DBCC-40FB-A3BF-C69133E8A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B16C-2DB2-4F98-8A1D-37F347C39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ы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истема единиц физических велич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ительные шк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и методы измер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F55D-DDF8-4EE0-81AD-3EA57CA3A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равнение связи между числовыми значен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это уравнение связи между числовыми значения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4000" y="2708280"/>
                <a:ext cx="88200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b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95280" y="414972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равнение связи между числовыми значениями площади треугольника и его геометрическими размерами имеет вид при условии, что площадь измеряется в квадратных метрах, а основании и высота соответственно в метрах и миллиметр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К=1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.5·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К=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2BC9-4839-4909-898F-88FE9B381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еждународная систем единиц физических величин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ица измерения физической величи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зическая величина фиксированного размера, которой условно присвоено числовое значение, равное 1, и применяемая для количественного выражения однородных с ней физических велич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физических величин, образованная в соответствии с принятыми принципами, создает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истему физических величи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одни величины принимаются как независимые, а другие определяются как функции независим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AF4D-1234-4C2A-9569-E4DCA28E9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остоинства системы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охват всех областей науки, техники, произ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нификация еди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всех видов измерений (механических, тепловых, электрических, магнитных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герен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вязанность, согласованность) величин; коэффициенты пропорциональности в уравнениях, определяющих единицы производных величин равны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меньшение чи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пускаемых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легчение процесса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FFA9-461A-4CD0-9BA4-1D46874E8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остоинства системы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зможность воспроиз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 с высокой точностью в соответствии с их определ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прощение запи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равнений и формул в физике, химии, а также в технических расчетах, отсутствие в них производных коэффици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ая 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ова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атных и дольных еди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меющих собственное наимен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учшее взаимопоним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 развитии международных научно-технических и экономически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646B-06CC-49B6-83A1-E9A7272083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еждународная систем единиц физических величин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ие величины подразделяются 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вида: основные и произ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новная физическая величин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это величина, входящая в систему величин и условно принятая в качестве независимой от других величин эт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изводная физическая величин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это величина, входящая в систему величин и определяемая через основные величины эт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3219-5214-4F67-8AF8-236004B68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480360" cy="627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525F-974F-4894-BF41-E09A394A2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20720" y="404640"/>
            <a:ext cx="5529240" cy="645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BA75-C484-4A07-B9B7-A1ACE1801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еждународная систем единиц физических величин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атная еди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это единица физической величины, в целое число раз превышающая системную или внесистемную еди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льная еди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это единица физической величины, значение которой в целое число раз меньше системной или внесистемной еди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бразования наименований десятичных кратных и дольных единиц используются соответствующие приста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3B40-7A23-4B29-828E-E7185B9CC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20360" cy="46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A712-A9BE-4F8D-819A-4F79D8B7F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еждународная систем единиц физических величин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системные единиц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такие единицы физических величин, которые не входят в принятую в каждом конкретном случае систему единиц. Они 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мые к применению наравне с единицами СИ (тонна, градус, минута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мые к применению в специальных областях (астрономическая единица, парсек, световой год, диоптрия, электрон-вольт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о допускаемые (морская миля, карат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ревшие (не допускаемые) (мм. рт. ст., лошадиная сила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9586-1A39-43E4-AAB9-46D9EDAB7D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358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Этапы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184" t="4921" r="3271" b="5859"/>
          <a:stretch/>
        </p:blipFill>
        <p:spPr>
          <a:xfrm>
            <a:off x="250920" y="1341360"/>
            <a:ext cx="8712000" cy="50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91B6-6118-4AF5-BB2A-740BE22C3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0" b="3375"/>
          <a:stretch/>
        </p:blipFill>
        <p:spPr>
          <a:xfrm>
            <a:off x="1187280" y="549360"/>
            <a:ext cx="669636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96B4-9228-4CC5-830B-B96260F557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12549" r="0" b="0"/>
          <a:stretch/>
        </p:blipFill>
        <p:spPr>
          <a:xfrm>
            <a:off x="684360" y="1773360"/>
            <a:ext cx="8208720" cy="257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78B2-9AAD-4D86-9FAA-9F481A1936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Шкала физической величины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упорядоченная последовательность значений ФВ, принятая по соглашению на основании результатов точных измер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ы и определения теории шкал измерений изложены в докум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 2365—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A6EC-6B59-4802-8026-366A7B508D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. Типы ш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шкалы наименовани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шкалы классификаций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изуются оценкой (отношением) эквивалентности различных качественных проявлений свойства. Эти шкалы не имеют нуля и единицы измерений, в них отсутствуют отношения сопоставления типа «больше — меньше». Это самый простой тип шк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шкалы наименований: шкалы цветов, представляемые в виде атласов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2778-0717-40C1-BDB7-71F4370F9A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. Типы ш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калы порядка  (шкалы рангов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ывают свойства величин, упорядоченные по возрастанию или убыванию оцениваемого свойства, т.е. позволяют установить отношение больше/ меньше между величинами, характеризующими это свойство. В этих шкалах может в ряде случаев иметься нуль (нулевая отметка), но принципиальным для них является отсутствие единицы измерения, поскольку невозможно установить, в какое число раз больше или меньше проявляется свойство велич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FC93-DD0B-43A4-8F22-D965558C39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. Типы ш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ы шкал порядка: шкалы измерения твердости, баллов силы ветра, землетрясе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кала твердости минералов Мооса, которая содержит 10 опорных (реперных) минералов: тальк-1; гипс-2; кальций-3; флюорит-4; апатит-5; ортоклаз-6; кварц-7; топаз-8; корунд-9; алмаз-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65FE-32B8-4750-8CB3-1F29ABC483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2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шкалы интервалов (разностей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ывают свойства величин не только с помощью отношений эквивалентности и порядка, но также и с применением отношений суммирования и пропорциональности интервалов (разностей) между количественными проявлениями свойства. Шкалы интервалов могут иметь условно выбранное начало — нулевую точк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8E2F-BD95-4DCD-9E97-8FEF1F839B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летоисчисление по различным календарям, в которых за начало отсчета принято либо сотворение мира, либо Рождество Христово, температурные шкалы Цельсия, Фаренгейта, Реомю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интервалов величи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ывается уравнени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числовое значение величины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чало отсчета шкалы;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 — единица рассматриваемой величины. Такая шкала определяется заданием начала отсче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ы и единицы величины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244800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97B0-69F9-4CF1-9BEC-EC29B20B12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ть шкалу можно двумя путями. При первом пути выбираются два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ы, которые относительно просто реализованы физически. Эти значения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орными точкам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ыми реперам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интерва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сновным интервалом.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ется за начало отсчета, а величин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единиц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число единиц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ется таким, чтоб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целой велич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243080"/>
            <a:ext cx="489564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508720" y="162864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ные шкалы Цельсия (°С), Реомюра (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енгейта (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львина (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EE5F-9848-4765-950A-BE1987BDD7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одной шкалы интервал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руг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ся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 Фаренгейта является шкалой интервалов. На не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температура смеси льда, поваренной соли и нашатыр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емпература человеческого тела. Единица измерения — градус Фаренгей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 таяния смеси льда, соли и нашатыря оказалась равной 32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температура кипения воды — 2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шкале Цельс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температура таяния льда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 кипения воды. Градус Цельс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/ 100 = 1 º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получить формулу для перехода от одной шкалы к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11640" y="3789360"/>
            <a:ext cx="2160720" cy="423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2520720" cy="87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41A3-1D1D-4BA6-89CB-6EFDE9E14E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358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Этапы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028240"/>
            <a:ext cx="828036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змерение физической величин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 совокупность операций по применению технического средства, хранящего единицу физической величины, обеспечивающих нахождение соотношения (в явном или неявном виде) измеряемой величины с ее единицей и получение значения эт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5915-986F-4CE0-B360-60779C85E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для перехода определяется в соответствии с выражением. Значение разности температур по шкале Фаренгейта между точкой кипения воды и точкой таяния льда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2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32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8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 шкале Цельсия интервал температур равен 100°С. Следовательно, 100°С = 18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тношение размеров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вое значение интервала между началами отсчета по рассматриваемым шкалам, измеренного в градусах Фаренгей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вно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от температуры по шк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енгейта к температуре по ш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сия производится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2519280" cy="988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651640" y="5013360"/>
            <a:ext cx="194292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95E5-EBD5-45A3-B297-B7068FEB95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алы отно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ывают свойства величин, для множества количественных проявлений которых применимы логические отношения эквивалентности, порядка и пропорциональности, а для некоторых шкал также отношение сумм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калах отношений существует естественный нуль и по согласованию устанавливается единица изме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ы отношений описываются урав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физическая величина, для которой строится шк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ереход одной шкалы отношений к другой осуществляется через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ами шкалы отношений являются шкалы массы и термодинамической темп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492360" y="3500280"/>
            <a:ext cx="1295640" cy="52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419640" y="4724280"/>
            <a:ext cx="1439640" cy="8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D9BF-07C7-42C9-9BE8-B554CAB437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Измерительные ш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солютные шкал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всех признаков шкал отношений обладают дополнительным признаком: в них присутствует однозначное определение единицы измерения. Такие шкалы присущи таким относительным единицам, как коэффициенты усиления, ослабления, полезного действия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у абсолютных шкал, например, коэффициентов полезного действия, присущи границы, заключенные между нулем и едини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43FD-F445-4CD6-8BC8-E606931453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 Виды и методы изме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ласть измер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совокупность измерений физических величин, свойственных какой-либо области науки или техники и выделяющихся своей специфи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ид измер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— часть области измерений, имеющая свои особенности и отличающаяся однородностью измеряемых велич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ъектом измерения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являются физическая система, процесс, явление и т.д., которые характеризуются одной или несколькими измеряемыми физическими величинами. Примером объекта измерений может быть технологический химический процесс, во время которого измеряют температуру, давление, энергию, расход веществ и материа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Измер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нахождение значения физической величины опытным путем с помощью специальных технически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9CB4-9027-46D7-8F82-77BC95A85E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 Виды и методы изме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ы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н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нятия «измерение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рять можно свойства реально существующих объектов познания (физические величи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рение требует проведения опытов (теоретические рассуждения и расчет не могут заменить эксперимен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оведения опыта требуется специальные технические средства - средства измер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214A-BDFF-4814-983F-A93C9BBF6B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сновные характеристики измерения как информацион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21470400">
            <a:off x="257040" y="1784160"/>
            <a:ext cx="8515440" cy="45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1CC3-634C-426A-9F88-9C6AE7C250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сновные характеристики измерения как информацион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Метод измерений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прием или совокупность приемов сравнения измеряемой физической величины с ее единицей в соответствии с реализованным принципом измерений. Например, определение структуры соединений методом ядерного магнитного резонанса или методом инфракрасной спектроскоп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Принцип измерений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физическое явление (физический закон или эффект), положенное в основу измерений. Например, применение эффекта Доплера для измерения скорости движения звезд, вращения небесных те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характеристика качества измерений, отражающая близость к нулю значения погрешности результатов измерений. Высокая точность измерений соответствует малым величинам погрешностей измер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22BA-0490-45D8-B9C2-F9B029659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сновные характеристики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ходим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это близость друг к другу результатов измерений одной и той же величины, выполненных повторно одним и тем же средством, одним и тем же методом в одинаковых условиях и с одинаковой тща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спроизводим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близость результатов измерений одной и той же величины, полученных в разных местах, разными методами, разными средствами, разными операторами, в разное время, но приведенных к одним и тем же условиям измерений (температура, давление, влажность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36ED-BDD5-4275-92D7-576383EBA9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сновные характеристики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ави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актеризует степень близости среднего арифметического значения большого числа результатов измерений к истинному (действительному) или принятому опорному значению. Показателем правильности обычно является значение систематической погр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цизионн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ь близости друг к другу независимых результатов измерений, полученных в конкретных регламентированных условиях. Мера прецизионности обычно вычисляется как стандартное отклонение результатов измерений. Крайние показатели прецизионности — повторяемость (сходимость) и воспроизво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B3B9-6AC4-49F6-8DDB-4945925A48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иды и методы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050840"/>
            <a:ext cx="8569440" cy="53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58C0-EDD2-436B-846E-A2A620D622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мер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ыражение в форме степенного одночлена, составленного из произведений символов основных физических величин в различных степенях и отражающее связь данной физической величины с физическими величинами, принятыми в данной системе величин за основные с коэ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циентом пропорциональности, равным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международным стандартом ИСО 31/0, размерность величин следует обозначать зна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m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размер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C329-E40C-4199-9D74-0115692F1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способу получе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мерения, при которых искомое значение физической величины получают непосредственно (путем сравнения величины с ее единицей). К прямым измерениям относятся измерение массы при помощи весов и гирь, силы тока — амперметром, температуры — термометром, измерение длины — линей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с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мерения, при которых искомое значение физической величины определяют на основании прямых измерений других физических величин, функционально связанных с искомой величиной. Например, плотность тела можно определить по результатам измерений масс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бъем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AD37-35D1-40A0-8ADB-2B4CF885B1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способу получе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окуп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мерения, при которых одновременно проводятся измерения нескольких одноименных величин и искомое значение величины определяют путем решения системы уравнений, получаемых при измерениях этих величин в различных сочетаниях, при этом число уравнений должно быть не меньше числа величин. Например, значение массы отдельных гирь набора определяют по известному значению массы одной из гирь и по результатам измерений (сравнений) масс различных сочетаний г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ме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мерения, при которых одновременно проводятся измерения двух или нескольких неодноименных величин для определения зависимости между ними, например, зависимость длины объекта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3393-2E89-4BE4-8551-2D37693E974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 характеру изменения получае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4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рения — это такие измерения, когда физическая величина принимается за неизменную на протяжении времени измерения, например, измерение размеров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намичес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рения — это измерения, изменяющиеся по размеру физической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E43B-A213-467C-8241-2E4AAD6203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характеристике то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 algn="just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вноточ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ряд измерений какой-либо величины, выполненных одинаковыми по точности СИ и в одних и тех же условиях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равноточ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ряд измерений какой-либо величины, выполненных несколькими различными по точности СИ и (или) в нескольких разных услов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8356-4EAB-4330-B72F-D25FE65F8C1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количеству измеритель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днократ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змерения выполняются один р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Многократ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зволяют получить результат из нескольких следующих друг за другом измерений одного и того же объе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однократных измерениях показания средств измерений являются результатом измерений, погрешность используемого средства измерений определяет погрешность результата измерения. Применение многократных измерений позволяет повысить точность измерения до определенного пред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88CE-1769-4331-A97D-5E2F3BDF50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отношению к основным един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бсолют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мерения основаны на прямых измерениях одной или нескольких основных величин и (или) использовании значений физических констант. Например, определение массы в килограммах, количества вещества — в молях, частоты — в Гер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мерения — это измерения отношения величины к одноименной величине, играющей роль единицы, или измерения изменения величины по отношению к одноименной величине, принимаемой за исходную. Например, относительная влажность определяется как отношение упругости водяного пара, содержащегося в воздухе, к упругости насыщенного пара при той же температуре и выражаетс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1F49-4FFF-4925-84A8-9D6F72E8EB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Методы изме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3721"/>
          <a:stretch/>
        </p:blipFill>
        <p:spPr>
          <a:xfrm>
            <a:off x="250920" y="1136520"/>
            <a:ext cx="846144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948C-C161-4290-8DB3-08D96A679F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 способу получения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341280" indent="-16920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непосредственной оценки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измерения, при котором значение величины определяют непосредственно по отсчетному устройству измерительного прибора прямого действия (например, измерение длины с помощью линейки или размеров деталей микрометром, угломером 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20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рав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р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етод измерения, при котором измеряемую величину сравнивают с величиной, воспроизводимой мерой. Например, для измерения диаметра калибра микрокатор устанавливают на нуль по блоку концевых мер длины, а результаты измерения получают по отклонению стрелки микрокатора от нуля, то есть сравнивается измеряемая величина с размером блока концевых мер. О точности размера судят по отклонению стрелки микрокатора относительно нулев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0897-6C79-472E-8468-A1CEC136E66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Метод сравнения с м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тод противопостав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тором измеряемая величина и величина, воспроизводимая мерой, одновременно воздействуют на прибор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фференциальный мет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тором измеряемую величину сравнивают с известной величиной, воспроизводимой мерой. Этим методом, например, определяют отклонение контролируемого диаметра детали на оптиметре после его настройки на нуль по блоку концевых мер дл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левой мет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тором результирующий эффект воздействия величин на прибор сравнения доводят до нуля. Подобным методом измеряют электрическое сопротивление по схеме моста с полным его уравновешив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тод совпадени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тором разность между измеряемой величиной и величиной, воспроизводимой мерой, определяют, используя совпадения отметок шкал или периодических сигналов (например, при измерении штангенциркулем используют совпадение отметок основной и нониусной шк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2AE9-A7A8-470F-9270-361A900F881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Методы изме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измерении линейных величи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о от рассмотренных методов различ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актный и бесконтактный мет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зависимости от измерительных средств, используемых в процессе измер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инструментальный, экспертный, эвристический и органолептический методы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рументаль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основан на использовании специальных технических средств, в том числе автоматизированных и автоматиче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т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оценки основан на использовании данных нескольких специалистов. Широко применяется в квалиметрии, спорте, искусстве, медиц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врис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ценки основаны на интуиции. Широко используется способ попарного сопоставления, когда измеряемые величины сначала сравниваются между собой попарно, а затем производится ранжирование на основании результатов этого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олептп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ценки основаны на использовании органов чувств человека (осязания, обоняния, зрения, слуха и вкуса). Часто используются измерения на основе впечатлений (конкурсы мастеров искусств, соревнования спортсме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CDDB-0BEF-40B0-9A34-E441760D42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бщем виде размерность любой физической величин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выражена равенств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5040360" cy="101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472428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..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целые числа, показатели размерности физической величи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8442-EB3F-4E46-9F76-BB66F7AB3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для системы величин механ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M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ой в качестве основных физических величин приняты дл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асс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рем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ность величин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824360" cy="1069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443700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 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 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 Т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746F-44AC-4FFF-80BB-0688AF1EA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изическая величина, в размерности которой хотя бы одна из основных физических величин возведена в степень, не равную нулю, называется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размерной физической величи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Безразмерно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зывается такая физическая величина, в размерности которой основные физические величины входят в степени, равной нул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392720" cy="8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9179-5593-44EA-9EEC-CC0F467FA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етрологии существуют два вида уравнений, связывающих между собой различные физические величи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) уравнение связи между величин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— величины, связанные с измеряемой величин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которым уравнением 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редставляют соотношение между величинами в общем виде, независимо от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050920" y="3645000"/>
                <a:ext cx="40388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FD53-49DA-4784-BFF2-6428BC8DE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бъекты и методы измерений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Лекция 3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Разм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сновные величины, то это уравнение служит для образования производн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уравнений связи между величинами можно представить в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оэффициент (число), не зависящий от выбора единиц измерений; он определяет связь между велич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лощадь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а половине произведения осн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ысот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оэффициент К=0,5 появился в связи с выбором не единиц измерений, а формы сам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50920" y="3141720"/>
                <a:ext cx="4753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EBB5-1B1F-4AF2-A84F-348209084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1:17:13Z</dcterms:created>
  <dc:creator>Worker</dc:creator>
  <dc:description/>
  <dc:language>en-US</dc:language>
  <cp:lastModifiedBy>*</cp:lastModifiedBy>
  <dcterms:modified xsi:type="dcterms:W3CDTF">2009-09-15T07:23:17Z</dcterms:modified>
  <cp:revision>44</cp:revision>
  <dc:subject/>
  <dc:title>Объекты и методы измерений.  Лекция 3</dc:title>
</cp:coreProperties>
</file>