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612-CC67-4E17-86BA-F9BC03A4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495-48B7-4035-BC7F-4456E5C3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E08-0DF2-4448-843E-EFB2FA9F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0EC-0BBA-4E35-B17A-9ED0A8C1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7544-4F0D-4771-88B6-D7907893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E21-9F3E-4C1A-BC96-5BDB606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EBFE-0031-4F3C-88E2-B341C6B6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2339-325E-4B36-8275-9E489B23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32F4-6B3B-434F-9A2F-B606419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5496-C8EB-4B2E-919C-3AD28392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6DA3-1CFE-4847-ACB5-D63957F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F6A-B7DF-4A4F-8D45-B1389019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3494-8D58-4A70-AB32-C97E5CFA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317-3DB8-4983-B548-EBA964D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EA17-6263-4C4C-94DB-D1E8F5E3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FB1-6FEF-4EFE-8306-0B7B07A0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ECFC-DF9C-44B6-A916-0280889E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2562-9FF0-471F-827A-D3F37D0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A4F8-EBE6-43DB-B277-FC861920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94DA-8776-406B-9913-7D1248EF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EFE1-08F2-40CF-8090-F37C758C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068E-273C-446D-AD23-9B2EC0D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E00-1078-4398-B705-BC83034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12E5-3F01-45DB-9C77-50F28004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E75F-7751-471C-BA54-775A4166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E5AB-A173-4E67-98D0-0BB5E00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6E61-2910-4DAE-8A3E-0C676E68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5E8B-A34D-426B-9C48-0076C1DC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40EC-D3D9-4EE5-A938-461A677A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9FBE-337F-412E-96A8-58298A76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ADF3-BAD6-4E69-AC85-6ECB7445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C180-4CDF-4944-AF09-B32D8CE3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77BA-9514-458F-890F-6B90405C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E26-70D1-4E8C-B1F3-0008EBBB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204B-A1DF-478D-9428-193BA222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D173D-8F1C-44D8-97EE-CB8A5A23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FD0C-F667-4D14-9709-277954F0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8002-C1F7-4CED-8132-92D9AFC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F01D-E0C9-47F6-BF05-7ED23D5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38F3-4882-42B5-AE9E-569D4BC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11C2-4B48-4553-9B06-1695FE51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5C89-143E-47FA-838C-5601D9AF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70F7-CA03-4C28-833E-2FFE0720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560-FD77-4751-B498-BA680612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BA0-8836-421C-8122-B3311B71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9FE-595F-410C-83BA-B77D1E5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E0F-697B-4B3B-8BFC-63FB91CF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57A-C2F0-4947-939A-EC6969A7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8AA5-A9FF-419D-BF52-E5EECA039F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DD31-A6A0-44A8-AB61-BF8A1EE317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6A4A-3097-42FD-BBEB-56C9DB2FAF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7865-2AEE-42AE-9EB6-BC275EE61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31F-9CFF-455B-BE34-45B949234F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ые учетные опер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мерения, проводимые по поручению органов суда, прокуратуры, арбитражного суда, государственных органов управления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ство продукции, поставляемой по контрактам для государственных нужд в соответствии с законодательством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еодезические и гидрометеорологические рабо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нковские, налоговые, таможенные и почтовые опер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истрация национальных и международных рекор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51F-CF1A-4485-ADA3-EB6BAC0F7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определя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Государственную метрологическую службу и иные государственные службы обеспечения единства измерений, метрологические службы государственных органов управления Российской Федерации и юридических лиц, их задачи и полномочия. Кроме того, он задает виды, полномочия, зоны ответственности и порядок осуществления государственного метрологического контроля и надзора, осуществляемого Государственной метрологической службой Госстандарта Росс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бластях, где надзор и контроль не применяются, используются правила и положения, введенные положение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оссийской системы калибр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F64-55C1-44C0-B98E-1593AE8649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ложения настоящего Закона были расширены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Государственной системой обеспечения единства измерений (ГСИ)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представляющей собой комплекс нормативных документов межрегионального и межотраслевого уровней, устанавливающих правила, нормы, требования, направленные на достижение и поддержание единства измерений в стране (при требуемой точности), утверждаемых Госстандартом страны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448-A70E-4A3E-9B51-361B03F919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еализации положений законов "Об обеспечении единства измерений" и "О техническом регулировании", а также постановлений Правительства России разрабатываются и принимаются подзаконные акты —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рмативные документ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документы, устанавливающие правила, общие принципы или характеристики, касающиеся различных видов деятельности или их результатов (ГОСТР 1.12-9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624-57D2-4599-A4E3-E54197A1F1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Гармонизация стандарта 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приведение его содержания в соответствие с другим стандартом (как правило, международным) для обеспечения взаимозаменяемости продукции (услуг), взаимного понимания результатов испытаний и информации, содержащейся в стандарт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Гармонизированными стандарта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ываются стандарты, принятые различными занимающимися стандартизацией органами, распространяющиеся на одни и те же объекты стандартизации и обеспечивающие взаимозаменяемость продукции, процессов и услуг и взаимное понимание результатов испытаний или информации, представляемой в соответствии с этими стандар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782-BA18-429C-A46A-4959E888E3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Правил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ПР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по стандартизации, метрологии, сертификации, аккредита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дставляют собой нормативный документ, устанавливающий обязательные для применения организационно-технические и/или общетехнические положения, порядки, методы выполнения работ в перечисленных выше обл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Рекоменда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Р) (в том числе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межгосударственны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МГ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по стандартизации, метрологии, сертификации, аккредита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являются нормативными документами, содержащими добровольные для применения организационно-технические и/или общетехнические положения, порядки, методы выполнения работ, а также рекомендуемые правила выполнения этих ра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Методические инстру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МИ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и руководящие документ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РД) являются нормативными документами методического содержания, разрабатываются организациями, подведомственными Госстандарту Росс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406-E741-4612-B0B6-C0173D3CE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стема воспроизведения единиц физических величин (ФВ) и передача размера С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спроизведение единицы Ф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овокупность операций по материализации единицы ФВ с наивысшей точностью посредством государственного эталона или исходного образцового 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ало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средство измерений (или комплекс СИ), предназначенное для воспроизведения и (или) хранения единицы и передачи ее размера нижестоящим по поверочной схеме СИ и утвержденное в качестве эталона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54D-7DCC-46E4-82AC-8D6721169E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6A3-D8CD-4434-8815-7AC839DFB6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а эталон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изм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ойство эталона удерживать неизменным размер воспроизводимой им единицы в течение длительного интервала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роизвод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озможность воспроизведения единицы ФВ (на основе теоретического определения) с наименьшей погрешностью для существующего уровня развития измерительной тех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ичае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озможность сличения с эталоном других СИ, нижестоящих по поверочной схеме, в первую очередь вторичных эталонов, с наивысшей точностью для существующей техники изме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F75-EEF6-4933-9119-0843FD649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эталонов (по РМГ 29-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7320" indent="-249480" algn="just">
              <a:lnSpc>
                <a:spcPct val="80000"/>
              </a:lnSpc>
              <a:spcBef>
                <a:spcPts val="6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Международ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эталон, принятый по международному соглашению в качестве международной основы для согласования с ним размеров единиц, воспроизводимых и хранимых национальными эталона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7320" indent="-249480" algn="just">
              <a:lnSpc>
                <a:spcPct val="80000"/>
              </a:lnSpc>
              <a:spcBef>
                <a:spcPts val="6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ервичные эталоны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спроизводят единицу какой-либо величины с наивысшей точностью. Они представляют собой уникальные средства измерений, созданные в соответствии с наивысшими достижениями современной науки и техники. В частности, для реализации связи единиц  времени,  частоты  и  длины  (например, первичного эталона единицы длины — метра) используется длина волны стабилизированных лазер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BF4-31DD-4BB8-989A-0E2AAA1AC1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7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E50-9F99-4B4A-B3FC-6218EB7AB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ы эталонов (по РМГ 29-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368280" algn="just">
              <a:lnSpc>
                <a:spcPct val="90000"/>
              </a:lnSpc>
              <a:spcBef>
                <a:spcPts val="6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государственный или национальны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это первичный или специальный эталон, официально утвержденный в качестве исходного для стран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368280" algn="just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торичные или специальные этало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воспроизводят единицу какой-либо величины в особых условиях, и заменяют при этих условиях первичный этал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084-B33D-4D39-9C23-7AB721625C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лассификация вторичных эталон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1828800"/>
            <a:ext cx="8228880" cy="4300560"/>
            <a:chOff x="457200" y="1828800"/>
            <a:chExt cx="8228880" cy="4300560"/>
          </a:xfrm>
        </p:grpSpPr>
        <p:cxnSp>
          <p:nvCxnSpPr>
            <p:cNvPr id="232" name="_s57360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4674600" y="3444840"/>
              <a:ext cx="860760" cy="1067040"/>
            </a:xfrm>
            <a:prstGeom prst="bentConnector3">
              <a:avLst>
                <a:gd name="adj1" fmla="val 132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57357"/>
            <p:cNvCxnSpPr>
              <a:stCxn id="236" idx="0"/>
              <a:endCxn id="234" idx="2"/>
            </p:cNvCxnSpPr>
            <p:nvPr/>
          </p:nvCxnSpPr>
          <p:spPr>
            <a:xfrm flipV="1" rot="16200000">
              <a:off x="5741280" y="2378160"/>
              <a:ext cx="860760" cy="3200760"/>
            </a:xfrm>
            <a:prstGeom prst="bentConnector3">
              <a:avLst>
                <a:gd name="adj1" fmla="val 132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57356"/>
            <p:cNvCxnSpPr>
              <a:stCxn id="238" idx="0"/>
              <a:endCxn id="234" idx="2"/>
            </p:cNvCxnSpPr>
            <p:nvPr/>
          </p:nvCxnSpPr>
          <p:spPr>
            <a:xfrm flipH="1" flipV="1" rot="5400000">
              <a:off x="3607920" y="3444840"/>
              <a:ext cx="860760" cy="1067400"/>
            </a:xfrm>
            <a:prstGeom prst="bentConnector3">
              <a:avLst>
                <a:gd name="adj1" fmla="val 132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9" name="_s57355"/>
            <p:cNvCxnSpPr>
              <a:stCxn id="240" idx="0"/>
              <a:endCxn id="234" idx="2"/>
            </p:cNvCxnSpPr>
            <p:nvPr/>
          </p:nvCxnSpPr>
          <p:spPr>
            <a:xfrm flipH="1" flipV="1" rot="5400000">
              <a:off x="2541240" y="2378160"/>
              <a:ext cx="860760" cy="3201120"/>
            </a:xfrm>
            <a:prstGeom prst="bentConnector3">
              <a:avLst>
                <a:gd name="adj1" fmla="val 132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4" name="_s57351"/>
            <p:cNvSpPr/>
            <p:nvPr/>
          </p:nvSpPr>
          <p:spPr>
            <a:xfrm>
              <a:off x="3657600" y="1828800"/>
              <a:ext cx="1828440" cy="172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торич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57352"/>
            <p:cNvSpPr/>
            <p:nvPr/>
          </p:nvSpPr>
          <p:spPr>
            <a:xfrm>
              <a:off x="457200" y="4409280"/>
              <a:ext cx="1828440" cy="172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коп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57353"/>
            <p:cNvSpPr/>
            <p:nvPr/>
          </p:nvSpPr>
          <p:spPr>
            <a:xfrm>
              <a:off x="2590560" y="4409280"/>
              <a:ext cx="1828440" cy="172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свиде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57354"/>
            <p:cNvSpPr/>
            <p:nvPr/>
          </p:nvSpPr>
          <p:spPr>
            <a:xfrm>
              <a:off x="6857640" y="4409280"/>
              <a:ext cx="1828440" cy="172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Рабоч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57359"/>
            <p:cNvSpPr/>
            <p:nvPr/>
          </p:nvSpPr>
          <p:spPr>
            <a:xfrm>
              <a:off x="4724280" y="4409280"/>
              <a:ext cx="1828440" cy="172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срав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3AB-4994-47AC-917B-DDC0CAE694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лассификация вторичных эталон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0" algn="just">
              <a:spcBef>
                <a:spcPts val="700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алон - коп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редназначен для передачи размеров единиц величины рабочим эталонам, он не всегда является физической копией государственного первичного этало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 algn="just">
              <a:spcBef>
                <a:spcPts val="700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>
              <a:spcBef>
                <a:spcPts val="700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алон-свидете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редназначен для проверки сохранности государственного эталона и для замены его в случае порчи или утра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196-FDA1-41BD-B115-97A8A0219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лассификация вторичных эталон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алон - сравн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используется для сличения эталонов, которые по тем или иным причинам не могут быть непосредственно сличаемы друг с друг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бочий этало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воспроизводит единицу какой-либо величины от вторичных эталонов и служит для передачи размера эталону более низкого ря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еобходимости рабочие эталоны подразделяются на разряды – 1-й, 2-й, 3-й,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A1F-514E-4EF0-B95A-C8BFE554F7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рабочим эталоном следую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зцовые средства измерения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редставляют собой меру, измерительный прибор или измерительный преобразователь и служат для проверки по ним других средств измерений и утверждены в качестве образцов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бочие средства измерен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 предназначены непосредственно для измерений любых видов, не связанных с передачей размеров единиц каких-либо величи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984-7564-4EA1-9D68-12BE71BFF1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Схема передачи размера единицы Ф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278360" y="1927440"/>
            <a:ext cx="6148440" cy="4445280"/>
            <a:chOff x="1278360" y="1927440"/>
            <a:chExt cx="6148440" cy="4445280"/>
          </a:xfrm>
        </p:grpSpPr>
        <p:sp>
          <p:nvSpPr>
            <p:cNvPr id="249" name=""/>
            <p:cNvSpPr/>
            <p:nvPr/>
          </p:nvSpPr>
          <p:spPr>
            <a:xfrm>
              <a:off x="1278360" y="1927440"/>
              <a:ext cx="6148440" cy="42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осударственный первичный эталон единицы Ф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08000" y="2778840"/>
              <a:ext cx="31093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торичные этало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37560" y="3929040"/>
              <a:ext cx="1553040" cy="86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Эталоны срав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32920" y="3929040"/>
              <a:ext cx="15544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абочие этало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37560" y="5510880"/>
              <a:ext cx="1270080" cy="86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-й разря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49120" y="5510880"/>
              <a:ext cx="12700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-й разря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87040" y="5504400"/>
              <a:ext cx="1271880" cy="86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-й разря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57360" y="5510880"/>
              <a:ext cx="127008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-й разря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62480" y="23472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2923200"/>
              <a:ext cx="7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1680" y="2923200"/>
              <a:ext cx="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17320" y="292320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40320" y="2923200"/>
              <a:ext cx="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01680" y="5222880"/>
              <a:ext cx="45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81800" y="47912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01680" y="52228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3600" y="52228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68800" y="52228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3280" y="52228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B3C-58B2-4E1F-B804-4A9B59F6E8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2060640"/>
            <a:ext cx="8821800" cy="4392000"/>
            <a:chOff x="0" y="2060640"/>
            <a:chExt cx="8821800" cy="4392000"/>
          </a:xfrm>
        </p:grpSpPr>
        <p:sp>
          <p:nvSpPr>
            <p:cNvPr id="269" name=""/>
            <p:cNvSpPr/>
            <p:nvPr/>
          </p:nvSpPr>
          <p:spPr>
            <a:xfrm>
              <a:off x="1547640" y="2060640"/>
              <a:ext cx="1079640" cy="3921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Рабочее С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27280" y="3315240"/>
              <a:ext cx="1081080" cy="156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бочий этало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-го разря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368244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грешность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08360" y="3786120"/>
              <a:ext cx="1079640" cy="625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Рабочий этало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-го разря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8000" y="3969360"/>
              <a:ext cx="936360" cy="15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4840" y="2845440"/>
              <a:ext cx="119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Государ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этало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47640" y="5982120"/>
              <a:ext cx="7201080" cy="470520"/>
            </a:xfrm>
            <a:prstGeom prst="rightArrow">
              <a:avLst>
                <a:gd name="adj1" fmla="val 50000"/>
                <a:gd name="adj2" fmla="val 382613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003e2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36147" dir="13500000" blurRad="0" rotWithShape="0">
                <a:srgbClr val="99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82760" y="2060640"/>
              <a:ext cx="144360" cy="39214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02240 h 3921480"/>
                <a:gd name="textAreaBottom" fmla="*/ 3819240 h 39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56360" y="2188440"/>
              <a:ext cx="266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жгосударствен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ли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2360" y="3626640"/>
              <a:ext cx="1225440" cy="38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27640" y="4256640"/>
              <a:ext cx="1225800" cy="37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84720" y="4882680"/>
              <a:ext cx="1225800" cy="38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331-F98C-46FA-872F-FC3325B62A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дача размера единиц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приведение размера единицы, хранимой поверяемым СИ, к размеру единицы, воспроизводимой или хранимой эталоном, осуществляемое при поверке или калибров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правильной передачи размера единиц ФВ во всех звеньях метрологической цепи осуществляется посредством поверочных сх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верочная схе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нормативный документ, который устанавливает соподчинение средств измерений, участвующих в передаче размера единицы от эталона к рабочим СИ с указанием методов и погрешности, и утвержден в установленном порядке (ГОСТ 8.061 – 8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2B4-701D-45CD-9A2D-C5E99CC7D4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рочные схемы деля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ая поверочная схе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спространяется на все СИ данной ФВ, имеющиеся в стране. Она разрабатывается в виде государственного стандарта, состоящего из чертежа поверочной схемы и текстовой части, содержащей пояснения к чертеж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Локальная поверочная схе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спространяется на СИ данной ФВ, применяемые в данном регионе, отрасли, ведомстве или отдельном предприятии. Схемы оформляются в виде чертеж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FC0-1109-481D-8CE4-CD5090D982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вер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тельн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перация, проводимая уполномоченным органом и заключающаяся в установлении пригодности СИ к применению на основании экспериментально определенных метрологических характеристик и контроля их соответствия предъявленным требован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ы поверки (РМГ 29-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3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ичн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иод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3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еочередн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спе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3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лексн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элемен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3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бор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777-D3B4-4E62-89B2-E8D9EE91CA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ми целями Зак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Об обеспечении единства измерений« явля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ление правовых основ обеспечения единства измерений в Российской Федер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улирование отношений государственных органов управления с юридическими и физическими лицами по вопросам изготовления, выпуска, эксплуатации, ремонта, продажи и импорта средств измер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щита прав и законных интересов граждан, установленного правопорядка и экономики России от отрицательных последствий недостоверных результатов измер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действие прогрессу на основе создания и применения государственных эталонов единиц Ф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армонизация российской системы измерений с мировой практи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838-D55E-43F5-8364-E0545DC2E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рафическое изображение поверочных сх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1280" y="2565360"/>
            <a:ext cx="1511280" cy="2664000"/>
            <a:chOff x="611280" y="2565360"/>
            <a:chExt cx="1511280" cy="2664000"/>
          </a:xfrm>
        </p:grpSpPr>
        <p:sp>
          <p:nvSpPr>
            <p:cNvPr id="291" name=""/>
            <p:cNvSpPr/>
            <p:nvPr/>
          </p:nvSpPr>
          <p:spPr>
            <a:xfrm>
              <a:off x="611280" y="2565360"/>
              <a:ext cx="151128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 Ф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4360" y="3573360"/>
              <a:ext cx="1368360" cy="6476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ет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280" y="4653000"/>
              <a:ext cx="1439640" cy="57636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ъек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 (С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200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32000" y="4221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484360" y="2565360"/>
            <a:ext cx="3022560" cy="2664000"/>
            <a:chOff x="2484360" y="2565360"/>
            <a:chExt cx="3022560" cy="2664000"/>
          </a:xfrm>
        </p:grpSpPr>
        <p:sp>
          <p:nvSpPr>
            <p:cNvPr id="297" name=""/>
            <p:cNvSpPr/>
            <p:nvPr/>
          </p:nvSpPr>
          <p:spPr>
            <a:xfrm>
              <a:off x="3059280" y="2565360"/>
              <a:ext cx="151128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 Ф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2000" y="3573360"/>
              <a:ext cx="1368720" cy="6476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ет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84360" y="4653000"/>
              <a:ext cx="1440000" cy="57636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ъек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 1(С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5128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51280" y="4221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67280" y="4653000"/>
              <a:ext cx="1439640" cy="57636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ъек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 2 (С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32000" y="4365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32000" y="4365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16360" y="4365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726160" y="2565360"/>
            <a:ext cx="3238560" cy="2664000"/>
            <a:chOff x="5726160" y="2565360"/>
            <a:chExt cx="3238560" cy="2664000"/>
          </a:xfrm>
        </p:grpSpPr>
        <p:sp>
          <p:nvSpPr>
            <p:cNvPr id="307" name=""/>
            <p:cNvSpPr/>
            <p:nvPr/>
          </p:nvSpPr>
          <p:spPr>
            <a:xfrm>
              <a:off x="6516720" y="2565360"/>
              <a:ext cx="151128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талон Ф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6000" y="3573360"/>
              <a:ext cx="1368360" cy="6476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ет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26160" y="4653000"/>
              <a:ext cx="1582560" cy="57636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ъек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 1 (С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08720" y="3141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0360" y="4653000"/>
              <a:ext cx="1584360" cy="57636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ъек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 2 (С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43640" y="335772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16720" y="4221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17080" y="4221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96360" y="3573360"/>
              <a:ext cx="1368360" cy="6476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ет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верки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43640" y="3357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44000" y="3357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12B-5D6E-4D72-9681-5340C1963B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25" descr="http://metrologyia.ru/wp-content/uploads/2008/09/d181d185d0b5d0bcd0b0-24.jpg"/>
          <p:cNvPicPr/>
          <p:nvPr/>
        </p:nvPicPr>
        <p:blipFill>
          <a:blip r:embed="rId1"/>
          <a:stretch/>
        </p:blipFill>
        <p:spPr>
          <a:xfrm>
            <a:off x="169236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8FAB-E168-4A1C-B3C5-CF733A623E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тандартный образец (СО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образец вещества или материала с установленными в результате метрологической аттестации значениями одной или более величин, характеризующими свойство, состав, структуру этого вещества или материала (ГОСТ 8.315-97). СО является средством измерений, представленное в виде вещества или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204560" y="4311360"/>
            <a:ext cx="6642360" cy="2106720"/>
            <a:chOff x="1204560" y="4311360"/>
            <a:chExt cx="6642360" cy="2106720"/>
          </a:xfrm>
        </p:grpSpPr>
        <p:sp>
          <p:nvSpPr>
            <p:cNvPr id="322" name=""/>
            <p:cNvSpPr/>
            <p:nvPr/>
          </p:nvSpPr>
          <p:spPr>
            <a:xfrm>
              <a:off x="2338560" y="4311360"/>
              <a:ext cx="43729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тандартный образец (С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04560" y="5770440"/>
              <a:ext cx="2591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 сост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55280" y="5770440"/>
              <a:ext cx="2591640" cy="64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 свой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338560" y="4959360"/>
              <a:ext cx="210600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44920" y="4959360"/>
              <a:ext cx="210600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D88-40A8-40CA-96BE-DEF8366A97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0560" y="414972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О соста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тандартный образец с установленными значениями величин, характеризующими содержание определенных компонентов веще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О свойст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стандартный образец с установленными значениями величин, характеризующими физические, химические, биологические и другие свойства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04560" y="1935000"/>
            <a:ext cx="6642360" cy="2106720"/>
            <a:chOff x="1204560" y="1935000"/>
            <a:chExt cx="6642360" cy="2106720"/>
          </a:xfrm>
        </p:grpSpPr>
        <p:sp>
          <p:nvSpPr>
            <p:cNvPr id="330" name=""/>
            <p:cNvSpPr/>
            <p:nvPr/>
          </p:nvSpPr>
          <p:spPr>
            <a:xfrm>
              <a:off x="2338560" y="1935000"/>
              <a:ext cx="43729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тандартный образец (С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04560" y="3394080"/>
              <a:ext cx="2591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 сост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55280" y="3394080"/>
              <a:ext cx="2591640" cy="64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 свой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338560" y="2583000"/>
              <a:ext cx="210600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44920" y="2583000"/>
              <a:ext cx="210600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AF2-1BA2-4530-87A3-AA4C05036C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Технические основы метрологического обеспечения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7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53280" y="2186640"/>
            <a:ext cx="6536160" cy="3963600"/>
            <a:chOff x="953280" y="2186640"/>
            <a:chExt cx="6536160" cy="3963600"/>
          </a:xfrm>
        </p:grpSpPr>
        <p:sp>
          <p:nvSpPr>
            <p:cNvPr id="337" name=""/>
            <p:cNvSpPr/>
            <p:nvPr/>
          </p:nvSpPr>
          <p:spPr>
            <a:xfrm>
              <a:off x="953280" y="2186640"/>
              <a:ext cx="6534360" cy="59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тандартные образ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3176280"/>
              <a:ext cx="4158000" cy="59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ежгосударст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3969720"/>
              <a:ext cx="4159800" cy="59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29640" y="4761720"/>
              <a:ext cx="4159800" cy="59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е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29640" y="5553360"/>
              <a:ext cx="415980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О предприя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48360" y="2780640"/>
              <a:ext cx="0" cy="29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48360" y="5751360"/>
              <a:ext cx="17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48360" y="4959720"/>
              <a:ext cx="17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48360" y="4167360"/>
              <a:ext cx="17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48360" y="3374280"/>
              <a:ext cx="17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902-512C-4D0A-AFC8-BC5CCE37C8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 закрепляет ряд основных понятий метроло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дним из главных является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единство измерений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— состояние измерений, при котором их результаты выражены в узаконенных единицах величин и погрешности измерений не выходят за установленные границы с заданной вероятностью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D62-24F1-4C0D-B106-2DB07EB11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кон РФ «Об обеспечении единства измерений» определя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основные метрологические понятия (термины и определения)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компетенцию Госстандарта России в обеспечении единства измерений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106-529E-45E1-83DD-2B3CF2E24D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диницы величин, государственные эталоны, средства и методики измер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етенцию и структуру Государственной метрологической службы и других государственных служб обеспечения единства измер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рологические службы государственных органов управления, предприятий и организац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феры распространения и виды государственного метрологического контроля и надзо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9BC-2BAF-45E9-BF05-24053EC2CC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ава, обязанности и ответственность государственных инспекторов по обеспечению единства измер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словия использования средств измерений в сферах распространения государственного метрологического контроля и надзо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ования к выполнению измерений по аттестованным методика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119-ABC2-4236-843A-BB54CCA927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положения калибровки и сертификации средств измер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организаций и физических лиц по изготовлению, ремонту, продаже и прокату средств измер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точники финансирования работ по обеспечению единства измер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ветственность за нарушение положений Зак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DEE-1FE1-48CA-B22E-0CCC4B22FD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Нормативно-правовые основы метрологии</a:t>
            </a:r>
            <a:br>
              <a:rPr sz="2800"/>
            </a:br>
            <a:r>
              <a:rPr b="0" i="1" lang="en-US" sz="2800" spc="-1" strike="noStrike">
                <a:solidFill>
                  <a:srgbClr val="420000"/>
                </a:solidFill>
                <a:latin typeface="Times New Roman"/>
              </a:rPr>
              <a:t>лекция 6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оном «Об обеспечении единства измерений» (ст. 1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яются сферы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в которых соблюдение метрологических требований обязательно и на которые распространяется государственный метрологический надзо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оохранение, ветеринария, охрана окружающей среды, обеспечение безопасности тру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ытания и контроль качества продукции в целях определения соответствия обязательным требованиям государственных стандартов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обороны стра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язательная сертификация продукции и услуг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рговые операции и взаимные расчеты между покупателем и продавцом, в том числе операции с применением игровых автоматов и устройст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017-4C7F-4A30-B955-ED34716F84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8:08:46Z</dcterms:created>
  <dc:creator>1</dc:creator>
  <dc:description/>
  <dc:language>en-US</dc:language>
  <cp:lastModifiedBy>*</cp:lastModifiedBy>
  <dcterms:modified xsi:type="dcterms:W3CDTF">2009-11-05T07:33:05Z</dcterms:modified>
  <cp:revision>30</cp:revision>
  <dc:subject/>
  <dc:title>Нормативно-правовые основы метрологии</dc:title>
</cp:coreProperties>
</file>