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9461-C007-4521-B00B-6FBD74E9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6C2-AAE7-48E2-BB84-506EB400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D7A-B82E-496C-88D3-446A8901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5076-2CA7-446B-BC4B-BE38EB9B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5908-AFFB-42D3-B838-A9E93A21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F3C9-E0B7-442A-A947-14F2DFBF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1FFB-8546-4ECF-849C-F20FB91C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175B-CA9C-43ED-9399-F4A469F4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2FF1-701E-4D29-8713-765AA5AD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D887-D092-4351-8CDD-3A26D3E1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A897-FEC8-4CC0-8496-A83BB9C4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90FB-47E8-4CE7-BC0B-AF2568ED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7F70-8B48-43F9-991A-8407CD65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8B5C-841C-48D2-A2FB-FF8585DA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B820-B3C2-40F8-B2B5-AD911B53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F6CE-CFAD-4D2C-8C53-A47D756F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E941-5943-42DD-A519-C30DC8A6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2CD-EAD2-4E8B-A915-5C6AED00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CFAA-55BD-4FB6-8A26-DD63D23A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C44-B3AB-4E7E-836E-C4C547DB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BC4-BE79-4CD8-887E-97B88C81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81C2-BDB4-479F-B939-4ACCD6F6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997-E413-44BE-82A4-C5C5DB24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EDF-4D68-4491-9775-11DAB176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A991-A715-4270-9D61-CDC07B28073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D1D4-F76D-44EA-980C-F04C820555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C7B5-5195-41E4-A61E-B0A46CD5591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Организационные основы метрологического обеспечения</a:t>
            </a:r>
            <a:br>
              <a:rPr sz="3600"/>
            </a:b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лекция 8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380880" y="3123720"/>
            <a:ext cx="6694560" cy="33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лан л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Unicode MS"/>
              </a:rPr>
              <a:t>1 Федеральное агентство по техническому регулированию и метр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 Unicode MS"/>
              </a:rPr>
              <a:t>Государственная метрологическая служба (ГМС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Unicode MS"/>
              </a:rPr>
              <a:t>3 </a:t>
            </a:r>
            <a:r>
              <a:rPr b="1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етрологические службы государственных органов управления и юридических лиц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4B66-4E8D-4242-BFF2-B09E0E7DDC2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00"/>
                </a:solidFill>
                <a:latin typeface="Arial"/>
              </a:rPr>
              <a:t>Организационные основы МО </a:t>
            </a:r>
            <a:r>
              <a:rPr b="1" lang="ru-RU" sz="2400" spc="-1" strike="noStrike">
                <a:solidFill>
                  <a:srgbClr val="0064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400"/>
                </a:solidFill>
                <a:latin typeface="Arial"/>
              </a:rPr>
              <a:t>лекция 8</a:t>
            </a:r>
            <a:br>
              <a:rPr sz="2800"/>
            </a:br>
            <a:r>
              <a:rPr b="1" lang="ru-RU" sz="2800" spc="-1" strike="noStrike">
                <a:solidFill>
                  <a:srgbClr val="001800"/>
                </a:solidFill>
                <a:latin typeface="Arial"/>
              </a:rPr>
              <a:t>2 Государственная метрологическая служба (МО)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вные задачи ГМС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лизация технической политики по обеспечению единства измерений в стране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ординация деятельности органов исполнительной власти РФ и юридических лиц в области обеспечения единства измер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860E-0545-41D7-819E-93DBF77290D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00"/>
                </a:solidFill>
                <a:latin typeface="Arial"/>
              </a:rPr>
              <a:t>Организационные основы МО </a:t>
            </a:r>
            <a:r>
              <a:rPr b="1" lang="ru-RU" sz="2400" spc="-1" strike="noStrike">
                <a:solidFill>
                  <a:srgbClr val="0064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400"/>
                </a:solidFill>
                <a:latin typeface="Arial"/>
              </a:rPr>
              <a:t>лекция 8</a:t>
            </a:r>
            <a:br>
              <a:rPr sz="2800"/>
            </a:br>
            <a:r>
              <a:rPr b="1" lang="ru-RU" sz="2800" spc="-1" strike="noStrike">
                <a:solidFill>
                  <a:srgbClr val="001800"/>
                </a:solidFill>
                <a:latin typeface="Arial"/>
              </a:rPr>
              <a:t>2 Государственная метрологическая служба (МО)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582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ГМС: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российский научно-исследовательский институт метрологической службы (ВНИИМС)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осударственные научные метрологические центры: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2.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ГП «ВНИИ метрологии им. Д.И. Менделеева» (ВНИИМ, Санкт-Петербург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2.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российский научно-исследовательский центр стандартизации, информации и сертификации сырья, материалов и веществ (ВНИЦСМВ, Москва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572A-CC9D-497A-911A-92F581BDEC0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00"/>
                </a:solidFill>
                <a:latin typeface="Arial"/>
              </a:rPr>
              <a:t>Организационные основы МО </a:t>
            </a:r>
            <a:r>
              <a:rPr b="1" lang="ru-RU" sz="2400" spc="-1" strike="noStrike">
                <a:solidFill>
                  <a:srgbClr val="0064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400"/>
                </a:solidFill>
                <a:latin typeface="Arial"/>
              </a:rPr>
              <a:t>лекция 8</a:t>
            </a:r>
            <a:br>
              <a:rPr sz="2800"/>
            </a:br>
            <a:r>
              <a:rPr b="1" lang="ru-RU" sz="2800" spc="-1" strike="noStrike">
                <a:solidFill>
                  <a:srgbClr val="001800"/>
                </a:solidFill>
                <a:latin typeface="Arial"/>
              </a:rPr>
              <a:t>2 Государственная метрологическая служба (МО)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2.3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российский научно-исследовательский институт классификации, терминологии и информации по стандартизации и качеству (ВНИИКИ, Москва)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2.4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ГП «ВНИИ физико-технических и радиотехнических измерений» (ВНИИФТРИ, Московская область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2.5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российский научно-исследовательский институт стандартизации (ВНИИСтандарт, Москва)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2.6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российский научно-исследовательский институт сертификации (ВНИИС, Москва)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2.7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Уральский научно-исследовательский институт метрологии (УНИИМ, Екатеринбург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96B3-15DC-4FE9-8E5E-96D039271AB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16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00"/>
                </a:solidFill>
                <a:latin typeface="Arial"/>
              </a:rPr>
              <a:t>Организационные основы МО </a:t>
            </a:r>
            <a:r>
              <a:rPr b="1" lang="ru-RU" sz="2400" spc="-1" strike="noStrike">
                <a:solidFill>
                  <a:srgbClr val="0064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400"/>
                </a:solidFill>
                <a:latin typeface="Arial"/>
              </a:rPr>
              <a:t>лекция 8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 Unicode MS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етрологические службы государственных органов управления и юридических лиц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рологические служб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создаются для научно-технического и организационно-методического руководства работами по метрологическому обеспечению в соответствии с ПР 50-732-93. При выполнении работ в сферах, предусмотренных ст. 13 Закона РФ от 27.04.93 №4871-1 «Об обеспечении единства измерений», создание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МС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для обеспечения единства измерений является обязательны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AABA-1951-44F2-98B8-2F920B262AB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00"/>
                </a:solidFill>
                <a:latin typeface="Arial"/>
              </a:rPr>
              <a:t>Организационные основы МО </a:t>
            </a:r>
            <a:r>
              <a:rPr b="1" lang="ru-RU" sz="2400" spc="-1" strike="noStrike">
                <a:solidFill>
                  <a:srgbClr val="0064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400"/>
                </a:solidFill>
                <a:latin typeface="Arial"/>
              </a:rPr>
              <a:t>лекция 8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 Unicode MS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етрологические службы государственных органов управления и юридических лиц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371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рологические службы государственных органов управления и юридических ли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ходя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 algn="just">
              <a:spcBef>
                <a:spcPts val="700"/>
              </a:spcBef>
              <a:buClr>
                <a:srgbClr val="00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рологические службы федерального органа исполнительной власти, головные и базовые организации в отраслях и подотрасл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 algn="just">
              <a:spcBef>
                <a:spcPts val="700"/>
              </a:spcBef>
              <a:buClr>
                <a:srgbClr val="00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рологические службы юридических лиц (предприятий, организаци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C098-D085-4D20-B713-23C86D5E49D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00"/>
                </a:solidFill>
                <a:latin typeface="Arial"/>
                <a:ea typeface="Arial"/>
              </a:rPr>
              <a:t>Организационные основы МО </a:t>
            </a:r>
            <a:r>
              <a:rPr b="1" lang="ru-RU" sz="2800" spc="-1" strike="noStrike">
                <a:solidFill>
                  <a:srgbClr val="006400"/>
                </a:solidFill>
                <a:latin typeface="Arial"/>
                <a:ea typeface="Arial"/>
              </a:rPr>
              <a:t>	</a:t>
            </a:r>
            <a:r>
              <a:rPr b="1" i="1" lang="ru-RU" sz="2800" spc="-1" strike="noStrike">
                <a:solidFill>
                  <a:srgbClr val="006400"/>
                </a:solidFill>
                <a:latin typeface="Arial"/>
                <a:ea typeface="Arial"/>
              </a:rPr>
              <a:t>лекция 8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 Unicode MS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етрологические службы государственных органов управления и юридических лиц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49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направления</a:t>
            </a:r>
            <a:r>
              <a:rPr b="0" lang="ru-RU" sz="2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еятельности метрологических служб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45160" algn="just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SzPct val="7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пределение задач и разработка программ по метрологическому обеспечению в рамках своего направл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45160" algn="just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SzPct val="7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ерспективное и текущее планирование мероприятий по метрологическому обеспечени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45160" algn="just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SzPct val="7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оведение анализа состояния измерений и метрологического обеспеч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45160" algn="just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SzPct val="7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состояние ремонта, поверки, метрологической аттестации средств измерений на предприятиях своего направл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195A-381A-457B-B2B7-77C2B352A1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00"/>
                </a:solidFill>
                <a:latin typeface="Arial"/>
                <a:ea typeface="Arial"/>
              </a:rPr>
              <a:t>Организационные основы МО </a:t>
            </a:r>
            <a:r>
              <a:rPr b="1" lang="ru-RU" sz="2800" spc="-1" strike="noStrike">
                <a:solidFill>
                  <a:srgbClr val="006400"/>
                </a:solidFill>
                <a:latin typeface="Arial"/>
                <a:ea typeface="Arial"/>
              </a:rPr>
              <a:t>	</a:t>
            </a:r>
            <a:r>
              <a:rPr b="1" i="1" lang="ru-RU" sz="2800" spc="-1" strike="noStrike">
                <a:solidFill>
                  <a:srgbClr val="006400"/>
                </a:solidFill>
                <a:latin typeface="Arial"/>
                <a:ea typeface="Arial"/>
              </a:rPr>
              <a:t>лекция 8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 Unicode MS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етрологические службы государственных органов управления и юридических лиц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75200" indent="-475200" algn="just">
              <a:spcBef>
                <a:spcPts val="649"/>
              </a:spcBef>
              <a:buClr>
                <a:srgbClr val="003300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изучение потребности предприятий в средствах измер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 algn="just">
              <a:spcBef>
                <a:spcPts val="649"/>
              </a:spcBef>
              <a:buClr>
                <a:srgbClr val="003300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аботка предложений по созданию новых средств и методов измер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 algn="just">
              <a:spcBef>
                <a:spcPts val="649"/>
              </a:spcBef>
              <a:buClr>
                <a:srgbClr val="003300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бор и обработка материалов о состоянии метрологического обеспечения в системе отрасл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 algn="just">
              <a:spcBef>
                <a:spcPts val="649"/>
              </a:spcBef>
              <a:buClr>
                <a:srgbClr val="003300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дрение контроля стандартов ГСИ на подведомственных предприятиях и организация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 algn="just">
              <a:spcBef>
                <a:spcPts val="649"/>
              </a:spcBef>
              <a:buClr>
                <a:srgbClr val="003300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готовка и повышение квалификации работник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рологической служб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9CDD-EE23-4D33-A4E8-74858D307D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17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00"/>
                </a:solidFill>
                <a:latin typeface="Arial"/>
                <a:ea typeface="Arial"/>
              </a:rPr>
              <a:t>Организационные основы МО </a:t>
            </a:r>
            <a:r>
              <a:rPr b="1" lang="ru-RU" sz="2800" spc="-1" strike="noStrike">
                <a:solidFill>
                  <a:srgbClr val="006400"/>
                </a:solidFill>
                <a:latin typeface="Arial"/>
                <a:ea typeface="Arial"/>
              </a:rPr>
              <a:t>	</a:t>
            </a:r>
            <a:r>
              <a:rPr b="1" i="1" lang="ru-RU" sz="2800" spc="-1" strike="noStrike">
                <a:solidFill>
                  <a:srgbClr val="006400"/>
                </a:solidFill>
                <a:latin typeface="Arial"/>
                <a:ea typeface="Arial"/>
              </a:rPr>
              <a:t>лекция 8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 Unicode MS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етрологические службы государственных органов управления и юридических лиц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С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дение научно-исследовательских и опытно-конструкторских работ по созданию и совершенствованию средств и методов измер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я, координация и проведение в отрасли работ по совершенствованию методов и средств измерений, методов контроля и испытаний, внедрение в производство новых методов и средств измер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4BB4-BE69-4261-8E40-E21363C0D3A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00"/>
                </a:solidFill>
                <a:latin typeface="Arial"/>
                <a:ea typeface="Arial"/>
              </a:rPr>
              <a:t>Организационные основы МО </a:t>
            </a:r>
            <a:r>
              <a:rPr b="1" lang="ru-RU" sz="2800" spc="-1" strike="noStrike">
                <a:solidFill>
                  <a:srgbClr val="006400"/>
                </a:solidFill>
                <a:latin typeface="Arial"/>
                <a:ea typeface="Arial"/>
              </a:rPr>
              <a:t>	</a:t>
            </a:r>
            <a:r>
              <a:rPr b="1" i="1" lang="ru-RU" sz="2800" spc="-1" strike="noStrike">
                <a:solidFill>
                  <a:srgbClr val="006400"/>
                </a:solidFill>
                <a:latin typeface="Arial"/>
                <a:ea typeface="Arial"/>
              </a:rPr>
              <a:t>лекция 8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 Unicode MS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етрологические службы государственных органов управления и юридических лиц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 algn="just">
              <a:spcBef>
                <a:spcPts val="751"/>
              </a:spcBef>
              <a:buClr>
                <a:srgbClr val="003300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аботка нормативно-технической документации по внедрению современных средств и методов измер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 algn="just">
              <a:spcBef>
                <a:spcPts val="751"/>
              </a:spcBef>
              <a:buClr>
                <a:srgbClr val="003300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я и проведение работ по метрологической экспертизе проектов, продукции, производств, предприят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 algn="just">
              <a:spcBef>
                <a:spcPts val="751"/>
              </a:spcBef>
              <a:buClr>
                <a:srgbClr val="003300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дение работ по автоматизации контрольно-измерительных операц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3696-6E28-4559-A32C-618B2FCBAC6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543800" cy="17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00"/>
                </a:solidFill>
                <a:latin typeface="Arial"/>
                <a:ea typeface="Arial"/>
              </a:rPr>
              <a:t>Организационные основы МО </a:t>
            </a:r>
            <a:r>
              <a:rPr b="1" lang="ru-RU" sz="2800" spc="-1" strike="noStrike">
                <a:solidFill>
                  <a:srgbClr val="006400"/>
                </a:solidFill>
                <a:latin typeface="Arial"/>
                <a:ea typeface="Arial"/>
              </a:rPr>
              <a:t>	</a:t>
            </a:r>
            <a:r>
              <a:rPr b="1" i="1" lang="ru-RU" sz="2800" spc="-1" strike="noStrike">
                <a:solidFill>
                  <a:srgbClr val="006400"/>
                </a:solidFill>
                <a:latin typeface="Arial"/>
                <a:ea typeface="Arial"/>
              </a:rPr>
              <a:t>лекция 8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 Unicode MS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етрологические службы государственных органов управления и юридических лиц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рологические службы юридических лиц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э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то самостоятельные структурные подразделения, в состав которых могут входить калибровочные и поверочные лаборатории, а также подразделения по ремонту СИ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BF5F-85ED-466A-818D-BCC3A0419A6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7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6400"/>
                </a:solidFill>
                <a:latin typeface="Arial"/>
              </a:rPr>
              <a:t>Организационные основы МО </a:t>
            </a:r>
            <a:r>
              <a:rPr b="1" lang="ru-RU" sz="2400" spc="-1" strike="noStrike">
                <a:solidFill>
                  <a:srgbClr val="0064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400"/>
                </a:solidFill>
                <a:latin typeface="Arial"/>
              </a:rPr>
              <a:t>лекция 8</a:t>
            </a:r>
            <a:br>
              <a:rPr sz="2800"/>
            </a:br>
            <a:r>
              <a:rPr b="1" lang="ru-RU" sz="2800" spc="-1" strike="noStrike">
                <a:solidFill>
                  <a:srgbClr val="001800"/>
                </a:solidFill>
                <a:latin typeface="Arial"/>
              </a:rPr>
              <a:t>1 Федеральное агентство по техническому регулированию и метрологии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ятельность по обеспечению единства измерений (ОЕИ) осуществляет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Федеральное агентство по техническому регулированию и метролог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Комитет Российской Федерации по стандартизации и метрологии, Госстандарт России) и обеспечивается следующими субъектами метролог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сударственной метрологической службой (ГСМ). В международной практике и практике отдельных стран «Служба мер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трологическими службами федеральных органов исполнительной власти и юридических лиц (МС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44C0-A6F1-42D5-8EB2-2A8C2E28B74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7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00"/>
                </a:solidFill>
                <a:latin typeface="Arial"/>
                <a:ea typeface="Arial"/>
              </a:rPr>
              <a:t>Организационные основы МО </a:t>
            </a:r>
            <a:r>
              <a:rPr b="1" lang="ru-RU" sz="2800" spc="-1" strike="noStrike">
                <a:solidFill>
                  <a:srgbClr val="006400"/>
                </a:solidFill>
                <a:latin typeface="Arial"/>
                <a:ea typeface="Arial"/>
              </a:rPr>
              <a:t>	</a:t>
            </a:r>
            <a:r>
              <a:rPr b="1" i="1" lang="ru-RU" sz="2800" spc="-1" strike="noStrike">
                <a:solidFill>
                  <a:srgbClr val="006400"/>
                </a:solidFill>
                <a:latin typeface="Arial"/>
                <a:ea typeface="Arial"/>
              </a:rPr>
              <a:t>лекция 8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 Unicode MS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етрологические службы государственных органов управления и юридических лиц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428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язанности МС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 algn="just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я и обеспечение метрологического обслуживания (ремонт, поверка, калибровка, наладка, учет, хранение средств измерений, используемых в производстве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 algn="just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аботка, внедрение в производственный процесс современных методик выполнения измерений и методов испытаний, проведение их аттестации;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ED39-3C12-4247-9583-3ADE7E90FBF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17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00"/>
                </a:solidFill>
                <a:latin typeface="Arial"/>
                <a:ea typeface="Arial"/>
              </a:rPr>
              <a:t>Организационные основы МО </a:t>
            </a:r>
            <a:r>
              <a:rPr b="1" lang="ru-RU" sz="2800" spc="-1" strike="noStrike">
                <a:solidFill>
                  <a:srgbClr val="006400"/>
                </a:solidFill>
                <a:latin typeface="Arial"/>
                <a:ea typeface="Arial"/>
              </a:rPr>
              <a:t>	</a:t>
            </a:r>
            <a:r>
              <a:rPr b="1" i="1" lang="ru-RU" sz="2800" spc="-1" strike="noStrike">
                <a:solidFill>
                  <a:srgbClr val="006400"/>
                </a:solidFill>
                <a:latin typeface="Arial"/>
                <a:ea typeface="Arial"/>
              </a:rPr>
              <a:t>лекция 8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 Unicode MS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етрологические службы государственных органов управления и юридических лиц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80240" indent="-480240" algn="just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обеспечение производственного процесса средствами измерений и установление рациональной номенклатуры средств измерений и поверочной аппаратуры, применяемых на предприят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0240" indent="-480240" algn="just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ановление оптимального перечня измеряемых параметров и норм точности измерений, обеспечивающих точность контроля режимов технологических процессов, контроля сырья и готовой продук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0240" indent="-480240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осуществление метрологического контроля и надзора на данном предприят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8C7F-945F-42AB-ACB2-9FD64570C37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7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00"/>
                </a:solidFill>
                <a:latin typeface="Arial"/>
                <a:ea typeface="Arial"/>
              </a:rPr>
              <a:t>Организационные основы МО </a:t>
            </a:r>
            <a:r>
              <a:rPr b="1" lang="ru-RU" sz="2800" spc="-1" strike="noStrike">
                <a:solidFill>
                  <a:srgbClr val="006400"/>
                </a:solidFill>
                <a:latin typeface="Arial"/>
                <a:ea typeface="Arial"/>
              </a:rPr>
              <a:t>	</a:t>
            </a:r>
            <a:r>
              <a:rPr b="1" i="1" lang="ru-RU" sz="2800" spc="-1" strike="noStrike">
                <a:solidFill>
                  <a:srgbClr val="006400"/>
                </a:solidFill>
                <a:latin typeface="Arial"/>
                <a:ea typeface="Arial"/>
              </a:rPr>
              <a:t>лекция 8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 Unicode MS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етрологические службы государственных органов управления и юридических лиц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роведения работ, таких как аттестация методик выполнения измерений, метрологическая экспертиза документации, метрологические службы предприятий и организаций должны быть аккредитованы в соответствии с ПР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.2.013-97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где регламентирован порядок аккредитации метрологических служб юридических лиц на право аттестации методик выполнения измерений и проведения метрологической экспертизы докумен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EF91-0249-47A4-8A10-0C1D7DA020F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1911" t="0" r="2712" b="4348"/>
          <a:stretch/>
        </p:blipFill>
        <p:spPr>
          <a:xfrm rot="21540000">
            <a:off x="250920" y="476280"/>
            <a:ext cx="856908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C230-962D-456E-89F1-A51E7D1E88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7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6400"/>
                </a:solidFill>
                <a:latin typeface="Arial"/>
              </a:rPr>
              <a:t>Организационные основы МО </a:t>
            </a:r>
            <a:r>
              <a:rPr b="1" lang="ru-RU" sz="2400" spc="-1" strike="noStrike">
                <a:solidFill>
                  <a:srgbClr val="0064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400"/>
                </a:solidFill>
                <a:latin typeface="Arial"/>
              </a:rPr>
              <a:t>лекция 8</a:t>
            </a:r>
            <a:br>
              <a:rPr sz="2800"/>
            </a:br>
            <a:r>
              <a:rPr b="1" lang="ru-RU" sz="2800" spc="-1" strike="noStrike">
                <a:solidFill>
                  <a:srgbClr val="001800"/>
                </a:solidFill>
                <a:latin typeface="Arial"/>
              </a:rPr>
              <a:t>1 Федеральное агентство по техническому регулированию и метрологии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мпетенция Федерального агентства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649"/>
              </a:spcBef>
              <a:buClr>
                <a:srgbClr val="00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жрегиональная и межотраслевая координация деятельности по обеспечению единства измерений в РФ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649"/>
              </a:spcBef>
              <a:buClr>
                <a:srgbClr val="00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ставление Правительству РФ предложений по единицам величин, допускаемых к применени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649"/>
              </a:spcBef>
              <a:buClr>
                <a:srgbClr val="00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ановление правил создания, утверждения, хранения и применения эталонов единиц физических величин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6965-0844-4FA0-A2E9-D2ADE2F1390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7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6400"/>
                </a:solidFill>
                <a:latin typeface="Arial"/>
              </a:rPr>
              <a:t>Организационные основы МО </a:t>
            </a:r>
            <a:r>
              <a:rPr b="1" lang="ru-RU" sz="2400" spc="-1" strike="noStrike">
                <a:solidFill>
                  <a:srgbClr val="0064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400"/>
                </a:solidFill>
                <a:latin typeface="Arial"/>
              </a:rPr>
              <a:t>лекция 8</a:t>
            </a:r>
            <a:br>
              <a:rPr sz="2800"/>
            </a:br>
            <a:r>
              <a:rPr b="1" lang="ru-RU" sz="2800" spc="-1" strike="noStrike">
                <a:solidFill>
                  <a:srgbClr val="001800"/>
                </a:solidFill>
                <a:latin typeface="Arial"/>
              </a:rPr>
              <a:t>1 Федеральное агентство по техническому регулированию и метрологии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just">
              <a:spcBef>
                <a:spcPts val="751"/>
              </a:spcBef>
              <a:buClr>
                <a:srgbClr val="003300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общих метрологических требований к средствам, методам и результатам измер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751"/>
              </a:spcBef>
              <a:buClr>
                <a:srgbClr val="003300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уществление государственного метрологического контроля и надзор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6E30-113A-48C4-8FA3-4E7E29C64E3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7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6400"/>
                </a:solidFill>
                <a:latin typeface="Arial"/>
              </a:rPr>
              <a:t>Организационные основы МО </a:t>
            </a:r>
            <a:r>
              <a:rPr b="1" lang="ru-RU" sz="2400" spc="-1" strike="noStrike">
                <a:solidFill>
                  <a:srgbClr val="0064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400"/>
                </a:solidFill>
                <a:latin typeface="Arial"/>
              </a:rPr>
              <a:t>лекция 8</a:t>
            </a:r>
            <a:br>
              <a:rPr sz="2800"/>
            </a:br>
            <a:r>
              <a:rPr b="1" lang="ru-RU" sz="2800" spc="-1" strike="noStrike">
                <a:solidFill>
                  <a:srgbClr val="001800"/>
                </a:solidFill>
                <a:latin typeface="Arial"/>
              </a:rPr>
              <a:t>1 Федеральное агентство по техническому регулированию и метрологии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just">
              <a:spcBef>
                <a:spcPts val="649"/>
              </a:spcBef>
              <a:buClr>
                <a:srgbClr val="003300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уществление контроля за соблюдением условий международных договоров РФ о признании результатов испытаний и поверки средств измер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649"/>
              </a:spcBef>
              <a:buClr>
                <a:srgbClr val="003300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уководство деятельностью Государственной метрологической службы и иных государственных служб по обеспечению единства измер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649"/>
              </a:spcBef>
              <a:buClr>
                <a:srgbClr val="003300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астие в деятельности международных организаций по вопросам обеспечения единства измер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5847-5B9D-4A4A-B964-78FDB40E08B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78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BC9E-F104-4324-BF39-6767B09AFC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6400"/>
                </a:solidFill>
                <a:latin typeface="Arial"/>
              </a:rPr>
              <a:t>Организационные основы МО </a:t>
            </a:r>
            <a:r>
              <a:rPr b="1" lang="ru-RU" sz="2400" spc="-1" strike="noStrike">
                <a:solidFill>
                  <a:srgbClr val="0064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400"/>
                </a:solidFill>
                <a:latin typeface="Arial"/>
              </a:rPr>
              <a:t>лекция 8</a:t>
            </a:r>
            <a:br>
              <a:rPr sz="2800"/>
            </a:br>
            <a:r>
              <a:rPr b="1" lang="ru-RU" sz="2800" spc="-1" strike="noStrike">
                <a:solidFill>
                  <a:srgbClr val="001800"/>
                </a:solidFill>
                <a:latin typeface="Arial"/>
              </a:rPr>
              <a:t>1 Федеральное агентство по техническому регулированию и метрологии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0" name="AutoShape 28"/>
          <p:cNvSpPr/>
          <p:nvPr/>
        </p:nvSpPr>
        <p:spPr>
          <a:xfrm>
            <a:off x="1042920" y="2185920"/>
            <a:ext cx="7464600" cy="85608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ое агентство по техническому регулированию и метр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9"/>
          <p:cNvSpPr/>
          <p:nvPr/>
        </p:nvSpPr>
        <p:spPr>
          <a:xfrm>
            <a:off x="324000" y="3979800"/>
            <a:ext cx="2512800" cy="263880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. служба времени, частоты и определения параметров вращения Земли (ГСВЧ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0"/>
          <p:cNvSpPr/>
          <p:nvPr/>
        </p:nvSpPr>
        <p:spPr>
          <a:xfrm>
            <a:off x="2987640" y="3771360"/>
            <a:ext cx="2513160" cy="291420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. служба стандартных образцов состава и свойств веществ и материалов (ГСС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1"/>
          <p:cNvSpPr/>
          <p:nvPr/>
        </p:nvSpPr>
        <p:spPr>
          <a:xfrm>
            <a:off x="5867280" y="3482280"/>
            <a:ext cx="2513160" cy="318888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. служба стандартных данных о физических константах и свойствах веществ и материалов (ГССС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4"/>
          <p:cNvSpPr/>
          <p:nvPr/>
        </p:nvSpPr>
        <p:spPr>
          <a:xfrm>
            <a:off x="3133800" y="3068640"/>
            <a:ext cx="30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ое руков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5"/>
          <p:cNvSpPr/>
          <p:nvPr/>
        </p:nvSpPr>
        <p:spPr>
          <a:xfrm>
            <a:off x="248436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6"/>
          <p:cNvSpPr/>
          <p:nvPr/>
        </p:nvSpPr>
        <p:spPr>
          <a:xfrm>
            <a:off x="2484360" y="342900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7"/>
          <p:cNvSpPr/>
          <p:nvPr/>
        </p:nvSpPr>
        <p:spPr>
          <a:xfrm flipV="1">
            <a:off x="6372360" y="299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9"/>
          <p:cNvSpPr/>
          <p:nvPr/>
        </p:nvSpPr>
        <p:spPr>
          <a:xfrm flipH="1">
            <a:off x="1763640" y="3429000"/>
            <a:ext cx="244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0"/>
          <p:cNvSpPr/>
          <p:nvPr/>
        </p:nvSpPr>
        <p:spPr>
          <a:xfrm>
            <a:off x="421164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4211640" y="3429000"/>
            <a:ext cx="27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4E6D-492A-4454-BDCE-3C73F268750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5438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6400"/>
                </a:solidFill>
                <a:latin typeface="Arial"/>
              </a:rPr>
              <a:t>Организационные основы МО </a:t>
            </a:r>
            <a:r>
              <a:rPr b="1" lang="ru-RU" sz="2400" spc="-1" strike="noStrike">
                <a:solidFill>
                  <a:srgbClr val="0064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400"/>
                </a:solidFill>
                <a:latin typeface="Arial"/>
              </a:rPr>
              <a:t>лекция 8</a:t>
            </a:r>
            <a:br>
              <a:rPr sz="2800"/>
            </a:br>
            <a:r>
              <a:rPr b="1" lang="ru-RU" sz="2800" spc="-1" strike="noStrike">
                <a:solidFill>
                  <a:srgbClr val="001800"/>
                </a:solidFill>
                <a:latin typeface="Arial"/>
              </a:rPr>
              <a:t>2 Государственная метрологическая служба (МО)</a:t>
            </a:r>
            <a:r>
              <a:rPr b="1" lang="ru-RU" sz="2800" spc="-1" strike="noStrike" u="sng">
                <a:solidFill>
                  <a:srgbClr val="001800"/>
                </a:solidFill>
                <a:uFillTx/>
                <a:latin typeface="Arial"/>
              </a:rPr>
              <a:t> 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78508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376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Государственная метрологическая служба (ГМС)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ставляет собой систему органов и организаций, действующих в целях обеспечения единства измерений в стране и осуществления государственного метрологического контроля и надзо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376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ГМС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включает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just">
              <a:lnSpc>
                <a:spcPct val="90000"/>
              </a:lnSpc>
              <a:spcBef>
                <a:spcPts val="624"/>
              </a:spcBef>
              <a:buClr>
                <a:srgbClr val="00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азделения центрального аппарата Госстандарта РФ, осуществляющие функции по обеспечению единства измерений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just">
              <a:lnSpc>
                <a:spcPct val="90000"/>
              </a:lnSpc>
              <a:spcBef>
                <a:spcPts val="624"/>
              </a:spcBef>
              <a:buClr>
                <a:srgbClr val="00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государственные научные метрологические центры (ГНМЦ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just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ы ГМС на территории республик РФ, автономных округов, краев, областей, город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3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8:35:31Z</dcterms:created>
  <dc:creator>*</dc:creator>
  <dc:description/>
  <dc:language>en-US</dc:language>
  <cp:lastModifiedBy>Home -2</cp:lastModifiedBy>
  <dcterms:modified xsi:type="dcterms:W3CDTF">2010-09-05T09:40:54Z</dcterms:modified>
  <cp:revision>21</cp:revision>
  <dc:subject/>
  <dc:title>Организационные основы метрологического обеспечения лекция 8</dc:title>
</cp:coreProperties>
</file>