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4881-1C35-4645-9A67-F235C98D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0EED-8067-4E27-9E9F-640A1B3C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319E-B526-4BC5-887D-E7CCE4DA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8F6-6C0F-49E1-9CBB-049B7466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7351-B919-46BA-BA2A-AA28357A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0105-0017-4FD0-96FD-505C7761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6D49-8C72-428C-B5E1-31699D39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DCD7-43F9-470A-B6CA-C817A878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3EB8-22EF-4C41-828A-BEB70669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0E87-870D-4319-A663-42C6E99A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B108-2E34-4035-9F8A-C8ED985D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4286-E3C4-4ABE-83CE-0EAF8037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E168-5136-454E-A08E-53EFAA9D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E0A5-218B-4CF0-9B6E-356B8CD6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0BAB-979B-499E-B7B2-2AC3F93A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9FD0-5CE9-40AE-8755-2B46B68E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E00F-A363-4E87-A9D0-A0E336AE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5A8-81BF-4F97-9D22-2C9D675F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180F-079C-49E3-8534-D793ADB4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F0F2-C071-4AED-BCC1-FFD39ED2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F28-C034-48F3-8D5D-E1309710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B2D4-0615-449A-9958-F03C4880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4FED-A1BD-4B28-B517-92A71B52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3E89-9B17-4B2C-9548-ACAB38F3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CDFC-3ED8-446D-AB8B-72D7055D63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8A36-5BE8-4F2B-AA7B-720491C1CF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9933ff"/>
                </a:solidFill>
                <a:latin typeface="Arial"/>
              </a:rPr>
              <a:t>Лекция 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26560" y="3141720"/>
            <a:ext cx="79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 ле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Понятие погреш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лассификация погрешностей и их опис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Закономерности формирования результата измер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Алгоритмы обработки многократных измер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C072-2490-4578-AD29-1C21487FB1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2 Классификация погрешностей и их опис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 &gt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П из серии измерений всегда меньше, чем в каждом отдельном измерении, отсюда следует, что для повышения точности измерений необходимо увеличивать число измер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635280" y="1557360"/>
            <a:ext cx="309744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F643-A6AF-40E2-BFB3-211F43F951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2 Классификация погрешностей и их опис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644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характеру проявления погрешности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делятся на систематические и случайны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284760" algn="just"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Систематическая погрешность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— одна из составляющих погрешности результата измерения, остающаяся постоянной или закономерно изменяющейся при повторных измерениях одной и той же физической величин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чина систематической погрешности характеризует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второй показатель качества –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ьнос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лученного результата: чем меньше величина Δ</a:t>
            </a:r>
            <a:r>
              <a:rPr b="0" lang="ru-RU" sz="25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сис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, тем правильнее полученный результат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33D-B632-4F5A-8D3F-C69731B7EF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2 Классификация погрешностей и их опис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ависимости от характера измерения систематические погрешности подразделяют на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оянные, прогрессивные, периодические и погрешности, изменяющиеся по сложному закон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79160" algn="just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нные погрешност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торые сохраняют свое значение в течение всего периода выполнения измерений. Эти погрешности, как правило, легко могут быть выявлены и учтены путем введения соответствующих поправок в результат измер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02AE-89D3-4EE0-9348-7980000CBF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2 Классификация погрешностей и их опис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46476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грессивные погреш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— это непрерывно возрастающие или убывающие погрешности. Они вызываются процессами износа или старения узлов и деталей средств измерения. К ним могут относиться погрешности от износа контактирующих деталей средств измерения, старение отдельных элементов (конденсаторов, резисторов и т.д.) средств измер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6476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яде случаев погрешности могут меняться периодически во времени или при перемещении указателя измерительного прибора. Таки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решности называются периодически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Обычно такие погрешности встречаются в угломерных приборах с круговой шка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A27-B2FD-4E3D-B9A1-49031B65BA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2 Классификация погрешностей и их опис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472360" cy="3360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68360" y="5805360"/>
            <a:ext cx="806436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результат измерения изучаемого прибора;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э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результат измерения эталонного прибо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564000" y="4724280"/>
            <a:ext cx="2663640" cy="11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E0B-C59A-49F8-9B9E-F7D7747252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2 Классификация погрешностей и их опис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лучайными называются погрешности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яющиеся случайным образом (по знаку и значению) при одинаковых повторных измерениях одной и той же величины. Эти погрешности возникают в результате влияния на процесс измерения многочисленных случайных факторов, учесть которые практически невозмож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6135-92BB-48DD-9BC7-6FB0B5CF55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2 Классификация погрешностей и их опис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чина случайной погрешности Δ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с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характеризует третий показатель качества измерений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ходимость результа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и повторных измерениях одного и того же значения измеряемой ФВ, выполненных одним и теми же СИ, одними и тем же методом в одинаковых условиях и с одинаковой тщате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случайной погрешности, как правило, относится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мах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рубая погрешность измерений), характеризующийся тем, что погрешность результата отдельного измерения, входящего в ряд измерений, для данных условий резко отличается от остальных результатов этого ря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97FA-24A7-40F5-8526-CA91E6AC1C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2 Классификация погрешностей и их опис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о условиям проведения измерений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погрешности средств измерений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деля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а основные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 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дополнит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сновной называется погрешность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средства измерений, применяемого в нормальных условиях. Эти условия устанавливаются в нормативно-технических документах на данный вид или тип средств измерений (температура окружающей среды, влажность, давление, напряжение питающей электрической сети и др.) и при них нормируется его погреш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452-D0E7-4E61-8472-2B09279E2A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2 Классификация погрешностей и их опис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чения погрешностей средств измерений, эксплуатируемых в условиях, отличающихся от нормальных, будут различными и плохо контролируемыми. Составляющая погрешности средства измерений, возникающая дополнительно к основной погрешности вследствие отклонения какой-либо из влияющих величин от нормального его значения или вследствие ее выхода за пределы нормальной области значений, называется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олнительной погреш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5012-D088-4BE1-B40E-89A02C5FF0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2 Классификация погрешностей и их опис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большинстве нормативно-технических документов на средства измерений за нормальные значения принимаются следу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пература окружающей среды (293±5) 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носительная влажность (65±15) %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тмосферное давление (100+4) кПа (750+30 мм рт. ст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яжение питающей электрической сети (220+4,4) В с частотой (50+0,5)Г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6B2-F3B2-4014-966B-6F6236C8A4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1 Понятие погрешности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решность результата измерения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— это отклонение результата измерений (Х</a:t>
            </a:r>
            <a:r>
              <a:rPr b="0" lang="ru-RU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из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) от истинного (действительного) значения (Х</a:t>
            </a:r>
            <a:r>
              <a:rPr b="0" lang="ru-RU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ист(действ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) измеряемой величины. Чаще всего она указывает границы неопределенности значения измеряемой величин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решность средства измерения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— это разность между показанием средства измерения и истинным (действительным) значением измеряемой физической величины. Она характеризует точность результатов измерений, проводимых данным средством. Эти два понятия во многом близки друг другу и классифицируются по одинаковым признака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42B2-1B38-4E11-80DC-99AA6BCB06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2 Классификация погрешностей и их опис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 причине возникновения погреш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разделяютс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на инструментальные, методические и субъектив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Инструментальная погрешност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условлена несовершенством средств измерений и их конструктивными особенностями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огда эту погрешность называют приборной или аппаратурно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EF1F-56DE-407D-8890-AC14C3E314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2 Классификация погрешностей и их опис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Методическая погрешно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условлена несовершенством и недостатками применяемого в средстве измерений метода измерений и упрощений при разработке конструкции средства измерений, а также возможными недостатками методик изме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убъективная (личная) погрешно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мерения обусловлена погрешностью отсчета оператором показаний по шкале средства измерений вследствие индивидуальных особенностей оператора (внимание, зрение, подготовка и др.). Эти погрешности практически отсутствуют при использовании автоматических или автоматизированных средств изме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6B9F-BCAF-41DB-985B-363638A320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2 Классификация погрешностей и их опис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 характеру измерения физической величин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погрешности средства измерений разделяются н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атические и динамическ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грешность средства измерений, применяемого при измерении физической величины, которая за время измерений не изменяется, носит названи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тической погреш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погрешность, возникающая при измерении изменяющейся в процессе измерений физической величины, 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инамической погреш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7FC-82C5-4837-B2BC-BAF7AC4105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2 Классификация погрешностей и их опис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 характеру зависимости от измеряемой величин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Х различают погрешност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ддитив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не зависящие от Х (т.е. ΔХ=const для любых значений Х в пределах диапазона измерений)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ультипликатив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линейно или нелинейно зависящие от Х (в этом случае ΔХ=f(Х)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42C-ECB3-46A2-86A7-62DC8ACFAB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3 Закономерности формирования результата изме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авила суммирования составляющих погреш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ределени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уммарной систематической погреш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843280" y="2852640"/>
                <a:ext cx="3816360" cy="13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ис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Х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ИС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24000" y="414972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раницы суммарной систематической погрешности определяют, задав желаемый уровень доверительной вероятнос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о формул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556000" y="5157720"/>
                <a:ext cx="41767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sSub>
                      <m:e>
                        <m:r>
                          <m:t xml:space="preserve">ΔХ</m:t>
                        </m:r>
                      </m:e>
                      <m:sub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си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ΔХ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сис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51F5-5CA9-4AB7-9728-510DC81488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3 Закономерности формирования результата изме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1844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эффициент 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зависит от доверительной вероятност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от числа суммируемых составляющих. На практике используют усреднённое значение коэффициен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124000" y="3789360"/>
          <a:ext cx="4680000" cy="1397160"/>
        </p:xfrm>
        <a:graphic>
          <a:graphicData uri="http://schemas.openxmlformats.org/drawingml/2006/table">
            <a:tbl>
              <a:tblPr/>
              <a:tblGrid>
                <a:gridCol w="752400"/>
                <a:gridCol w="885960"/>
                <a:gridCol w="1014480"/>
                <a:gridCol w="1012680"/>
                <a:gridCol w="1014480"/>
              </a:tblGrid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i="1" lang="ru-RU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0545-37C1-497E-A1F6-0B7957B0A1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3 Закономерности формирования результата изме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уммарной случайной составляющей погреш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ом случае, когда есть несколько независимых причин, вызывающих случайную погрешность, причем каждая составляющая, в общем случае, может иметь свой закон распреде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составляющие случайной погрешности известны и характеризуются СКП (средней квадратической погрешностью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, то суммарная СКП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езависимых составляющ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аличии корре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39640" y="4869000"/>
                <a:ext cx="237492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780000" y="4869000"/>
                <a:ext cx="496872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≈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04E2-CC0A-4150-A0E6-58FCEE6F4A0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3 Закономерности формирования результата изме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ределени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общей погрешности результата измерен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с учетом суммарной систематической и суммарной случайной составляющих погреш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ГОСТ 8.207-76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Если отношен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067280" y="2852640"/>
                <a:ext cx="21603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Σ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Σ</m:t>
                            </m:r>
                          </m:sub>
                        </m:sSub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403280" y="3860640"/>
                <a:ext cx="208908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3995640" y="4005360"/>
            <a:ext cx="4824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 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не исключенные остатки систематических погрешностей  или  - суммарная СК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476360" y="5229360"/>
                <a:ext cx="201600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788000" y="5300640"/>
                <a:ext cx="37447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≈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B54-34B8-4D9A-9CF1-B110605D50D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3 Закономерности формирования результата изме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 неисключенными систематическими погрешностям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енебрегаю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в качестве границ общей погрешности принимают границы доверительного интервала случайной погреш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коэффициент Стьюден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суммарная СК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411280" y="3716280"/>
                <a:ext cx="568800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Δ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луч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373-8674-4500-9E9F-403DD459FB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3 Закономерности формирования результата изме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сли отнош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енебрегают случайной погрешность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 в качестве границ общей погрешности принимают границы суммарной систематической погреш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148360" y="1773360"/>
                <a:ext cx="2160360" cy="14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Σ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Σ</m:t>
                            </m:r>
                          </m:sub>
                        </m:sSub>
                      </m:den>
                    </m:f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484360" y="4869000"/>
                <a:ext cx="45370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Σ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дов</m:t>
                                </m:r>
                              </m:sub>
                            </m:sSub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B70-9E3B-4CBD-B7AB-9129E78F78B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3340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260280"/>
            <a:ext cx="9143280" cy="6336720"/>
            <a:chOff x="0" y="260280"/>
            <a:chExt cx="9143280" cy="6336720"/>
          </a:xfrm>
        </p:grpSpPr>
        <p:sp>
          <p:nvSpPr>
            <p:cNvPr id="101" name=""/>
            <p:cNvSpPr/>
            <p:nvPr/>
          </p:nvSpPr>
          <p:spPr>
            <a:xfrm>
              <a:off x="2898000" y="260280"/>
              <a:ext cx="1900080" cy="48024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грешности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змере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1440" y="837720"/>
              <a:ext cx="1720440" cy="48024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о форме числового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ыраж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12760" y="837720"/>
              <a:ext cx="1541160" cy="48024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о закономерности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оявл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1893960"/>
              <a:ext cx="1267200" cy="48024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Абсолют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2757600"/>
              <a:ext cx="1267200" cy="48024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тноситель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621240"/>
              <a:ext cx="1267200" cy="48024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ривед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55480" y="1604160"/>
              <a:ext cx="1267200" cy="48024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лучай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18800" y="1604160"/>
              <a:ext cx="1446840" cy="48024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исте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27440" y="1604160"/>
              <a:ext cx="1448640" cy="48024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рубые промах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10440" y="2469600"/>
              <a:ext cx="1267200" cy="48024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редель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10440" y="3143160"/>
              <a:ext cx="1267200" cy="48024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тандарт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10440" y="3813840"/>
              <a:ext cx="1267200" cy="48024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ероят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10440" y="4487400"/>
              <a:ext cx="1267200" cy="48024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ред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10440" y="5158440"/>
              <a:ext cx="1267200" cy="48024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ред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арифметически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37000" y="2469600"/>
              <a:ext cx="1448640" cy="48024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 виду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сточн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12320" y="3236400"/>
              <a:ext cx="1449360" cy="48024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етод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12320" y="3906720"/>
              <a:ext cx="1449360" cy="48024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Инструментальны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12320" y="4580280"/>
              <a:ext cx="1449360" cy="48024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убъек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94560" y="3236400"/>
              <a:ext cx="1267200" cy="48024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остоя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4560" y="4004280"/>
              <a:ext cx="1267200" cy="48024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Услов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остоя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94560" y="4772880"/>
              <a:ext cx="1267200" cy="48024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Безуслов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остоя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96440" y="3238200"/>
              <a:ext cx="1446840" cy="48024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е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96440" y="3911040"/>
              <a:ext cx="1446840" cy="48024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рогрессирующи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96440" y="4677840"/>
              <a:ext cx="1446840" cy="48024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ериод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6440" y="5350680"/>
              <a:ext cx="1446840" cy="57528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меняющиес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о сложном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закон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96440" y="6116760"/>
              <a:ext cx="1446840" cy="48024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18880" y="2469600"/>
              <a:ext cx="1267560" cy="480240"/>
            </a:xfrm>
            <a:prstGeom prst="rect">
              <a:avLst/>
            </a:prstGeom>
            <a:solidFill>
              <a:srgbClr val="cc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о характеру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роявл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91880" y="1028160"/>
              <a:ext cx="362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94480" y="7405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30800" y="1316160"/>
              <a:ext cx="0" cy="259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67200" y="2084760"/>
              <a:ext cx="3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67200" y="2950200"/>
              <a:ext cx="3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266840" y="3909240"/>
              <a:ext cx="3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49440" y="2084760"/>
              <a:ext cx="0" cy="336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77640" y="275760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77640" y="333324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77640" y="400428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77640" y="477288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77640" y="544572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77640" y="150876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18880" y="1316160"/>
              <a:ext cx="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43560" y="150876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41320" y="150876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77640" y="150876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61680" y="2277000"/>
              <a:ext cx="190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61680" y="2277000"/>
              <a:ext cx="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62120" y="2277000"/>
              <a:ext cx="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41320" y="2084760"/>
              <a:ext cx="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41320" y="2950200"/>
              <a:ext cx="0" cy="18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61680" y="3526200"/>
              <a:ext cx="1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61680" y="4101840"/>
              <a:ext cx="1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61680" y="4772880"/>
              <a:ext cx="1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43560" y="2950200"/>
              <a:ext cx="0" cy="211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62120" y="3428640"/>
              <a:ext cx="1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62120" y="4294080"/>
              <a:ext cx="1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62120" y="5060880"/>
              <a:ext cx="1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15000" y="2950200"/>
              <a:ext cx="0" cy="335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15000" y="6309720"/>
              <a:ext cx="1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15000" y="5638680"/>
              <a:ext cx="1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15000" y="487044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15000" y="4197240"/>
              <a:ext cx="1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15000" y="3526200"/>
              <a:ext cx="1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B821-C442-42B4-8A4F-B9FF738F8D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3 Закономерности формирования результата изме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 Если ж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0,8≤К≤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границы общей погрешности следует находить, пользуясь эмпирическими форму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Р д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коэффициент, зависящий от доверительной вероятности и величины коэффици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кончательный результат представляется в вид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=Хизм±ΔХобщ; Рдов=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изм - ΔХобщ ≤Х≤Хизм+ ΔХобщ; Рдов=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116000" y="2421000"/>
                <a:ext cx="72010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щ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дов</m:t>
                                </m:r>
                              </m:sub>
                            </m:sSub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К</m:t>
                        </m:r>
                      </m:e>
                      <m:sub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дов</m:t>
                            </m:r>
                          </m:sub>
                        </m:sSub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Σ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Р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дов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Х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луч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Р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дов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708360" y="3860640"/>
                <a:ext cx="144000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Σ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Σ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78BA-795A-4AA0-8EDF-8939CA684FD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3 Закономерности формирования результата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авила округления значения погрешности и записи результата изме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грешность результата измерений позволяет определить те цифры результата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торые являются достоверными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етрологии существуют следующие прав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грешность результата измерения указывается двумя значащими цифрами, если первая из них 3 или меньше, и одно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сли первая цифра 4 и боле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и правила следует соблюда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олько при округлении расчетного значения погрешности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ащими цифрами числа считаются все цифры от первой слева, не равной нулю, до последней справа цифры, при этом нули, записанные в виде множителя 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е учитыв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26C-44F6-469D-844F-7763BA1E32A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3 Закономерности формирования результата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Результат измерения округляется до того же десятичного разряда, которым оканчивается округленное значение абсолютной погрешности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Например, результат 85,6342, погрешность ±0,01. Результат округляют до 85,63. Тот же результат при погрешности в пределах ±0,015 следует округлить до 85,63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Округление производится лишь в окончательном ответе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все предварительные вычисления проводят с одним - двумя лишними зна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FF5-F06D-4FDB-80F3-4CA3241314C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3 Закономерности формирования результата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Times New Roman"/>
              <a:buAutoNum type="arabicPeriod" startAt="4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Округление следует выполнять сразу до желаемого числа значащих цифр, поэтапное округление приводит к ошибкам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ишние цифры в целых числах заменяют нулями, а в десятичных дробях отбрасывают. (Например, число 165 245 при сохранении четырех значащих цифр округляют до 165 200, а число 165,245 — до 165,2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сли десятичная дробь оканчивается нулями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они отбрасываются только до разряда, который соответствует разряду погрешности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Например, результат измерений 235,200, погрешность ±0,05. Результат округляют до 235,20. Тот же результат при погрешности в пределах ±0,015 следует округлить до 235,200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97DB-1955-4A6C-B970-FE0024EF5EE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3 Закономерности формирования результата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сли первая (считая слева направо) из заменяемых нулями или отбрасываемых цифр меньше 5, остающиеся цифр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не изменя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сли первая из этих цифр равна 5, а за ней не следует никаких цифр, или идут нули, то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если последняя цифра в округляемом числе четная или нуль, она остается без изменения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нечетна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величивается на единицу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Например, число 1234,50 округляют до 1234, а число 8765,50 — до 8766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сли первая из заменяемых нулями или отбрасываемых цифр больше 5 или равна 5, но за ней следует значащая цифра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то последняя остающаяся цифра увеличивается на единицу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Например, число 6783,6 при сохранении четырех значащих цифр округляют до 6784, а число 12,34520 — до 12,35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8C98-D139-4B77-B41F-E7D14851A1E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3 Закономерности формирования результата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обенно внимательно следует относиться к записи результата измерения без указания погрешности, так как записи результата 2,4·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В и 2400 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не являются тождественными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вая запись означае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что верны цифры тысяч и сотен воль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истинное значение может находиться в интервале от 2,351 кВ до 2,449 кВ (так как расчетные значения 2,351 и 2,449 будут округлены до 2,4). Запись 2400 означае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что верны и единицы вольт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едовательно, истинное значение напряжения может находиться в интервале от 2399,51 В до 2400,49 В (поскольку в обоих случаях результат будет округлен до 2400 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332E-579D-48CA-ABE6-C0FB3A5A01E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4 Алгоритмы обработки многократных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лгоритм обработки прямых многократных измер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правляют результаты наблюдений исключением систематической погреш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числяют средне арифметическое значение по формул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635280" y="3573360"/>
                <a:ext cx="20163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х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5451480" y="4724280"/>
                <a:ext cx="292104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0" y="5229360"/>
            <a:ext cx="518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23960" indent="-5446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числяют выборочное СКО от значения погрешности измерений по формул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39A0-4FA8-4C57-89F1-5CD39FC188F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4 Алгоритмы обработки многократных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лючают промах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яют закон распределения случайной составляющ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заданном значении доверительной вероятност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числе измерени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таблицам определяют коэффициент Стьюдент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ходят границы доверительного интервала для случайной погрешности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409920" y="5464080"/>
                <a:ext cx="23940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луч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17A8-CD0B-4259-86E3-D82CAD4C5D9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4 Алгоритмы обработки многократных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величина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лу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равнима с абсолютным значением погрешности СИ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 величину  считают неисключенной систематической составляющей и в качестве доверительного интервала вычисляют величи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684360" y="3789360"/>
                <a:ext cx="81356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луч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∞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СИ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случ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6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СИ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C5CC-A4F9-4DB9-8260-936FD08DBE9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4 Алгоритмы обработки многократных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 по упрощенной формуле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Θ границы неисключенной составляющей погреш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ончательный результат записывают в ви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597040" y="2492280"/>
                <a:ext cx="344664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Θ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763640" y="5373720"/>
                <a:ext cx="25210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5222520" y="5661000"/>
            <a:ext cx="2676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вероятнос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B2B0-EA5C-450B-A764-4722BF10544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2 Классификация погрешностей и их опис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35164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орме представлени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пособу выражен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84120" algn="just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олют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грешност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единицах измеряемой велич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84120" algn="just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ситель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грешност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тноше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бсолютной погрешности к истинному (действительному) значению измеряемой величины или принятому опорному значению (ГОСТ Р ИСО 5725-200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64000" y="2708280"/>
            <a:ext cx="2880000" cy="833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284720" y="5084640"/>
            <a:ext cx="439272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8E99-05C5-42F9-941B-C2B960A7F7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4 Алгоритмы обработки многократных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РЕДЕЛЕНИЕ И ИСКЛЮЧЕНИЕ ГРУБЫХ ПОГРЕШНОСТЕЙ ИЗМЕ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тановлены критерии для выявления промахов. Если априорно известна точность измерений через величину СКО (σ), то при нормальном распределении экспериментальных данных предельно допустимые отклонения от среднего значения, составляют не более ч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 σ с вероятностью не менее Р=0,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σ с вероятностью не менее Р=0,6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σ с вероятностью не менее Р=0,9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6 σ с вероятностью не менее Р=0,9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σ с вероятностью не менее Р=0,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FA50-E18A-4C2A-8387-9CC2870348A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4 Алгоритмы обработки многократных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мановск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ри числе измерени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≤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проверяемое экспериментальное дан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е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авнивается с табличны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Есл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 проверяемое значение считается промах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916360" y="2276640"/>
                <a:ext cx="216036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DEE4-1A69-4EB1-B339-75F90922B11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4 Алгоритмы обработки многократных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арль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ри большом числе измерений 20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100. Промахом считаются результаты, для которых выполняется неравенств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К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ш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начения критерия Шарлье (табличны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203640" y="3213000"/>
                <a:ext cx="295272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&gt;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ш</m:t>
                        </m:r>
                      </m:sub>
                    </m:sSub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5048-D76A-4788-B203-7EB298DEF3A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4 Алгоритмы обработки многократных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ксо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ри небольшом числе экспериментальных данны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роверяемое значение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ервое в ряду. Значение является промахом, есл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табличное значение, для числа измере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заданного уровня значимос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овине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10. Промахом считаются результаты, для которых выполняется нераве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660840" y="2060640"/>
                <a:ext cx="18939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556000" y="4869000"/>
                <a:ext cx="3097080" cy="17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σ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при n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  <m:r>
                              <m:t xml:space="preserve">σ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при n</m:t>
                            </m:r>
                            <m:r>
                              <m:t xml:space="preserve">=</m:t>
                            </m:r>
                            <m:r>
                              <m:t xml:space="preserve">6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σ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при n</m:t>
                            </m:r>
                            <m:r>
                              <m:t xml:space="preserve">=</m:t>
                            </m:r>
                            <m:r>
                              <m:t xml:space="preserve">8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A681-6C85-4487-A3E8-F88E38366BA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2 Классификация погрешностей и их опис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5716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решность средств измер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ычисляется по форму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оказания прибора; -Х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ист(дейст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— истинное (действительное) значение измеряемой вел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716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веденная погрешность С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— это относительная погрешность, выраженная отношением абсолютной погрешности средства измерений к условно принятому значению величины, постоянному во всем диапазоне измерений или в части диапаз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843280" y="2060640"/>
            <a:ext cx="3166920" cy="712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219640" y="5013360"/>
            <a:ext cx="2664000" cy="141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6EE0-4231-4BCB-A5C0-7E8D99CFD9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2 Классификация погрешностей и их опис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6629400" cy="3103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23880" y="624852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значное отчетное устрой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372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ормирующ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знач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ормирующее значение прибора чаще всего принимается равным верхнему пределу измерений для данного средства измерений (в случае, если нижний предел — нулевое значение односторонней шкалы прибора). В случае двузначного отсчетного устройства (шкалы) прибора нормирующее значение отнесено к диапазону измер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EE78-5FAE-4C64-92B8-484F46EFB2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2 Классификация погрешностей и их опис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ачестве истинного значения при многократных измерениях одного и того же параметра используют среднее арифметическое 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Х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— результа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го единичного определения;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число единичных измерений в ря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348000" y="2852640"/>
            <a:ext cx="3095640" cy="156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1B94-6732-43DF-A57D-3B1D1EEA3C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2 Классификация погрешностей и их опис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чин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енная в одной серии измерений, является случайным приближением к Х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и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Для оценки ее возможных отклонений о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ис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ют среднюю квадратичную погрешность (СКП) которая получена из ряда равноточных изме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03640" y="3645000"/>
            <a:ext cx="3529080" cy="19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53D-020B-4A8F-964B-63141E8499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ПОГРЕШНОСТИ ИЗМЕРЕНИЙ И СРЕДСТВ ИЗМЕРЕНИЙ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Лекция 4</a:t>
            </a: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2 Классификация погрешностей и их опис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оценки рассеяния единичных результатов измерений в ряду равноточных измерений одной и той же физической величины около среднего их значения используют среднюю квадратичную погрешность измерений (СКП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419640" y="3429000"/>
            <a:ext cx="345600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C2CF-8A28-469E-8DB9-6DA35C55DE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9:11:50Z</dcterms:created>
  <dc:creator>USER</dc:creator>
  <dc:description/>
  <dc:language>en-US</dc:language>
  <cp:lastModifiedBy>*</cp:lastModifiedBy>
  <dcterms:modified xsi:type="dcterms:W3CDTF">2009-09-24T05:44:17Z</dcterms:modified>
  <cp:revision>32</cp:revision>
  <dc:subject/>
  <dc:title>ПОГРЕШНОСТИ ИЗМЕРЕНИЙ И СРЕДСТВ ИЗМЕРЕНИЙ </dc:title>
</cp:coreProperties>
</file>